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9955-18E1-4691-9C87-01625F61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2CB3-7AF5-413C-81C4-1B8AE704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6747-E909-4226-9034-20936D0C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554F-4E01-43E7-A824-35C18980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1617-7362-4E36-8B35-BA291C26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81B4-3BAB-4EDD-9F9F-F8FE3D24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A81E-ABA3-4B4A-BE75-C64B0C0E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2C05-43EE-402F-BCA3-B934C4F7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898B-9423-4010-A274-8D75AE84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D327-474F-4EDD-B7AE-C2D50308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FBED-D87A-4678-809A-5D35366F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CA06-00C2-423B-8A14-EB363ABF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D878-6509-4E5F-B235-09E17FEA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A50C-6DB3-4885-9C0E-3715CB77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2F09-5C13-4C92-B2F4-76FB5344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ED9C-CA15-4E71-AFD7-B7B2FCE2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5BA5-1614-458F-9421-D923E759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EC27-2AAD-4F3E-A32B-291C6060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7063-0279-4FAA-9958-A1BBB4D0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657D-F334-449E-898D-60073333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9904-A98D-471C-91BB-602DC44C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061F-2332-4EBC-B637-FCA550EF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49C9-6A24-483D-94D3-F6BD247E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ED1E-B8E2-4786-B8E7-41198522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87D2-01E7-434F-BBD9-D0191D127B3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96EB-ECFA-4446-90F8-45EF33C7B90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Opener: Write the equation or inequality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) The product of the number S and 5 is 2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) 12 is the quotient of a number N and 48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) The sum of 81 and 4 3/4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347840" y="2633760"/>
            <a:ext cx="635040" cy="287280"/>
          </a:xfrm>
          <a:custGeom>
            <a:avLst/>
            <a:gdLst/>
            <a:ahLst/>
            <a:rect l="l" t="t" r="r" b="b"/>
            <a:pathLst>
              <a:path w="1762" h="795">
                <a:moveTo>
                  <a:pt x="3820" y="7516"/>
                </a:moveTo>
                <a:cubicBezTo>
                  <a:pt x="3827" y="7486"/>
                  <a:pt x="3838" y="7471"/>
                  <a:pt x="3845" y="7441"/>
                </a:cubicBezTo>
                <a:cubicBezTo>
                  <a:pt x="3774" y="7600"/>
                  <a:pt x="3768" y="7808"/>
                  <a:pt x="3746" y="7987"/>
                </a:cubicBezTo>
                <a:cubicBezTo>
                  <a:pt x="3746" y="8012"/>
                  <a:pt x="3746" y="8020"/>
                  <a:pt x="3770" y="8012"/>
                </a:cubicBezTo>
              </a:path>
              <a:path w="1762" h="795">
                <a:moveTo>
                  <a:pt x="4192" y="7466"/>
                </a:moveTo>
                <a:cubicBezTo>
                  <a:pt x="4192" y="7390"/>
                  <a:pt x="4236" y="7385"/>
                  <a:pt x="4291" y="7342"/>
                </a:cubicBezTo>
                <a:cubicBezTo>
                  <a:pt x="4347" y="7298"/>
                  <a:pt x="4386" y="7326"/>
                  <a:pt x="4440" y="7367"/>
                </a:cubicBezTo>
                <a:cubicBezTo>
                  <a:pt x="4522" y="7429"/>
                  <a:pt x="4436" y="7540"/>
                  <a:pt x="4390" y="7590"/>
                </a:cubicBezTo>
                <a:cubicBezTo>
                  <a:pt x="4295" y="7694"/>
                  <a:pt x="4150" y="7727"/>
                  <a:pt x="4068" y="7838"/>
                </a:cubicBezTo>
                <a:cubicBezTo>
                  <a:pt x="4006" y="7922"/>
                  <a:pt x="3984" y="8014"/>
                  <a:pt x="3969" y="8111"/>
                </a:cubicBezTo>
                <a:cubicBezTo>
                  <a:pt x="3992" y="8030"/>
                  <a:pt x="4025" y="7939"/>
                  <a:pt x="4118" y="7913"/>
                </a:cubicBezTo>
                <a:cubicBezTo>
                  <a:pt x="4173" y="7898"/>
                  <a:pt x="4268" y="7966"/>
                  <a:pt x="4316" y="7987"/>
                </a:cubicBezTo>
                <a:cubicBezTo>
                  <a:pt x="4396" y="8023"/>
                  <a:pt x="4469" y="8031"/>
                  <a:pt x="4539" y="7962"/>
                </a:cubicBezTo>
                <a:cubicBezTo>
                  <a:pt x="4539" y="7954"/>
                  <a:pt x="4539" y="7946"/>
                  <a:pt x="4539" y="7938"/>
                </a:cubicBezTo>
              </a:path>
              <a:path w="1762" h="795">
                <a:moveTo>
                  <a:pt x="5110" y="7615"/>
                </a:moveTo>
                <a:cubicBezTo>
                  <a:pt x="5195" y="7679"/>
                  <a:pt x="5308" y="7623"/>
                  <a:pt x="5407" y="7615"/>
                </a:cubicBezTo>
                <a:cubicBezTo>
                  <a:pt x="5465" y="7615"/>
                  <a:pt x="5474" y="7615"/>
                  <a:pt x="5507" y="7615"/>
                </a:cubicBezTo>
              </a:path>
              <a:path w="1762" h="795">
                <a:moveTo>
                  <a:pt x="5110" y="7888"/>
                </a:moveTo>
                <a:cubicBezTo>
                  <a:pt x="5180" y="7931"/>
                  <a:pt x="5272" y="7913"/>
                  <a:pt x="5358" y="7913"/>
                </a:cubicBezTo>
                <a:cubicBezTo>
                  <a:pt x="5391" y="7913"/>
                  <a:pt x="5424" y="7913"/>
                  <a:pt x="5457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1562040"/>
            <a:ext cx="465120" cy="482760"/>
          </a:xfrm>
          <a:custGeom>
            <a:avLst/>
            <a:gdLst/>
            <a:ahLst/>
            <a:rect l="l" t="t" r="r" b="b"/>
            <a:pathLst>
              <a:path w="1291" h="1340">
                <a:moveTo>
                  <a:pt x="6796" y="4936"/>
                </a:moveTo>
                <a:cubicBezTo>
                  <a:pt x="6821" y="5082"/>
                  <a:pt x="6938" y="5186"/>
                  <a:pt x="7045" y="5283"/>
                </a:cubicBezTo>
                <a:cubicBezTo>
                  <a:pt x="7092" y="5325"/>
                  <a:pt x="7133" y="5371"/>
                  <a:pt x="7169" y="5383"/>
                </a:cubicBezTo>
              </a:path>
              <a:path w="1291" h="1340">
                <a:moveTo>
                  <a:pt x="7094" y="4887"/>
                </a:moveTo>
                <a:cubicBezTo>
                  <a:pt x="7003" y="5068"/>
                  <a:pt x="6880" y="5250"/>
                  <a:pt x="6747" y="5407"/>
                </a:cubicBezTo>
                <a:cubicBezTo>
                  <a:pt x="6724" y="5430"/>
                  <a:pt x="6716" y="5434"/>
                  <a:pt x="6722" y="5457"/>
                </a:cubicBezTo>
              </a:path>
              <a:path w="1291" h="1340">
                <a:moveTo>
                  <a:pt x="6524" y="5457"/>
                </a:moveTo>
                <a:cubicBezTo>
                  <a:pt x="6659" y="5517"/>
                  <a:pt x="6788" y="5567"/>
                  <a:pt x="6945" y="5581"/>
                </a:cubicBezTo>
                <a:cubicBezTo>
                  <a:pt x="7121" y="5596"/>
                  <a:pt x="7376" y="5559"/>
                  <a:pt x="7491" y="5407"/>
                </a:cubicBezTo>
                <a:cubicBezTo>
                  <a:pt x="7660" y="5184"/>
                  <a:pt x="7659" y="4937"/>
                  <a:pt x="7565" y="4688"/>
                </a:cubicBezTo>
                <a:cubicBezTo>
                  <a:pt x="7486" y="4480"/>
                  <a:pt x="7324" y="4341"/>
                  <a:pt x="7094" y="4341"/>
                </a:cubicBezTo>
                <a:cubicBezTo>
                  <a:pt x="6869" y="4341"/>
                  <a:pt x="6678" y="4465"/>
                  <a:pt x="6548" y="4638"/>
                </a:cubicBezTo>
                <a:cubicBezTo>
                  <a:pt x="6408" y="4825"/>
                  <a:pt x="6368" y="5056"/>
                  <a:pt x="6350" y="5283"/>
                </a:cubicBezTo>
                <a:cubicBezTo>
                  <a:pt x="6335" y="5473"/>
                  <a:pt x="6401" y="5590"/>
                  <a:pt x="6573" y="5655"/>
                </a:cubicBezTo>
                <a:cubicBezTo>
                  <a:pt x="6651" y="5685"/>
                  <a:pt x="6660" y="5674"/>
                  <a:pt x="6722" y="56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97120" y="1276200"/>
            <a:ext cx="3884760" cy="2108520"/>
          </a:xfrm>
          <a:custGeom>
            <a:avLst/>
            <a:gdLst/>
            <a:ahLst/>
            <a:rect l="l" t="t" r="r" b="b"/>
            <a:pathLst>
              <a:path w="10791" h="5855">
                <a:moveTo>
                  <a:pt x="11385" y="6400"/>
                </a:moveTo>
                <a:cubicBezTo>
                  <a:pt x="11509" y="6363"/>
                  <a:pt x="11599" y="6350"/>
                  <a:pt x="11733" y="6350"/>
                </a:cubicBezTo>
                <a:cubicBezTo>
                  <a:pt x="11950" y="6350"/>
                  <a:pt x="12158" y="6400"/>
                  <a:pt x="12378" y="6400"/>
                </a:cubicBezTo>
                <a:cubicBezTo>
                  <a:pt x="12517" y="6400"/>
                  <a:pt x="12640" y="6383"/>
                  <a:pt x="12774" y="6375"/>
                </a:cubicBezTo>
                <a:cubicBezTo>
                  <a:pt x="12885" y="6369"/>
                  <a:pt x="12987" y="6353"/>
                  <a:pt x="13097" y="6350"/>
                </a:cubicBezTo>
                <a:cubicBezTo>
                  <a:pt x="13288" y="6345"/>
                  <a:pt x="13476" y="6310"/>
                  <a:pt x="13667" y="6300"/>
                </a:cubicBezTo>
                <a:cubicBezTo>
                  <a:pt x="13891" y="6288"/>
                  <a:pt x="14113" y="6262"/>
                  <a:pt x="14337" y="6251"/>
                </a:cubicBezTo>
                <a:cubicBezTo>
                  <a:pt x="14520" y="6242"/>
                  <a:pt x="14701" y="6230"/>
                  <a:pt x="14883" y="6226"/>
                </a:cubicBezTo>
                <a:cubicBezTo>
                  <a:pt x="15043" y="6222"/>
                  <a:pt x="15196" y="6212"/>
                  <a:pt x="15354" y="6201"/>
                </a:cubicBezTo>
                <a:cubicBezTo>
                  <a:pt x="15484" y="6192"/>
                  <a:pt x="15603" y="6219"/>
                  <a:pt x="15726" y="6226"/>
                </a:cubicBezTo>
                <a:cubicBezTo>
                  <a:pt x="16030" y="6244"/>
                  <a:pt x="16340" y="6226"/>
                  <a:pt x="16644" y="6226"/>
                </a:cubicBezTo>
              </a:path>
              <a:path w="10791" h="5855">
                <a:moveTo>
                  <a:pt x="7491" y="4663"/>
                </a:moveTo>
                <a:cubicBezTo>
                  <a:pt x="7538" y="4585"/>
                  <a:pt x="7533" y="4543"/>
                  <a:pt x="7615" y="4465"/>
                </a:cubicBezTo>
                <a:cubicBezTo>
                  <a:pt x="7652" y="4430"/>
                  <a:pt x="7707" y="4415"/>
                  <a:pt x="7739" y="4390"/>
                </a:cubicBezTo>
                <a:cubicBezTo>
                  <a:pt x="7762" y="4372"/>
                  <a:pt x="7816" y="4340"/>
                  <a:pt x="7863" y="4316"/>
                </a:cubicBezTo>
                <a:cubicBezTo>
                  <a:pt x="7872" y="4311"/>
                  <a:pt x="7913" y="4303"/>
                  <a:pt x="7938" y="4291"/>
                </a:cubicBezTo>
                <a:cubicBezTo>
                  <a:pt x="7988" y="4267"/>
                  <a:pt x="8032" y="4239"/>
                  <a:pt x="8086" y="4217"/>
                </a:cubicBezTo>
                <a:cubicBezTo>
                  <a:pt x="8151" y="4191"/>
                  <a:pt x="8222" y="4190"/>
                  <a:pt x="8285" y="4167"/>
                </a:cubicBezTo>
                <a:cubicBezTo>
                  <a:pt x="8363" y="4138"/>
                  <a:pt x="8446" y="4090"/>
                  <a:pt x="8533" y="4068"/>
                </a:cubicBezTo>
                <a:cubicBezTo>
                  <a:pt x="8630" y="4044"/>
                  <a:pt x="8733" y="4022"/>
                  <a:pt x="8830" y="3994"/>
                </a:cubicBezTo>
                <a:cubicBezTo>
                  <a:pt x="8951" y="3959"/>
                  <a:pt x="9059" y="3910"/>
                  <a:pt x="9178" y="3870"/>
                </a:cubicBezTo>
                <a:cubicBezTo>
                  <a:pt x="9261" y="3842"/>
                  <a:pt x="9342" y="3822"/>
                  <a:pt x="9426" y="3795"/>
                </a:cubicBezTo>
                <a:cubicBezTo>
                  <a:pt x="9584" y="3744"/>
                  <a:pt x="9732" y="3706"/>
                  <a:pt x="9897" y="3671"/>
                </a:cubicBezTo>
                <a:cubicBezTo>
                  <a:pt x="10101" y="3627"/>
                  <a:pt x="10310" y="3585"/>
                  <a:pt x="10517" y="3572"/>
                </a:cubicBezTo>
                <a:cubicBezTo>
                  <a:pt x="10852" y="3551"/>
                  <a:pt x="11228" y="3537"/>
                  <a:pt x="11559" y="3547"/>
                </a:cubicBezTo>
                <a:cubicBezTo>
                  <a:pt x="11694" y="3551"/>
                  <a:pt x="11821" y="3583"/>
                  <a:pt x="11956" y="3597"/>
                </a:cubicBezTo>
                <a:cubicBezTo>
                  <a:pt x="12113" y="3614"/>
                  <a:pt x="12271" y="3630"/>
                  <a:pt x="12427" y="3646"/>
                </a:cubicBezTo>
                <a:cubicBezTo>
                  <a:pt x="12644" y="3669"/>
                  <a:pt x="12855" y="3708"/>
                  <a:pt x="13072" y="3746"/>
                </a:cubicBezTo>
                <a:cubicBezTo>
                  <a:pt x="13268" y="3780"/>
                  <a:pt x="13450" y="3831"/>
                  <a:pt x="13643" y="3870"/>
                </a:cubicBezTo>
                <a:cubicBezTo>
                  <a:pt x="13846" y="3910"/>
                  <a:pt x="14065" y="3924"/>
                  <a:pt x="14263" y="3969"/>
                </a:cubicBezTo>
                <a:cubicBezTo>
                  <a:pt x="14581" y="4042"/>
                  <a:pt x="14910" y="4133"/>
                  <a:pt x="15205" y="4266"/>
                </a:cubicBezTo>
                <a:cubicBezTo>
                  <a:pt x="15324" y="4320"/>
                  <a:pt x="15473" y="4386"/>
                  <a:pt x="15577" y="4465"/>
                </a:cubicBezTo>
                <a:cubicBezTo>
                  <a:pt x="15698" y="4557"/>
                  <a:pt x="15814" y="4683"/>
                  <a:pt x="15925" y="4787"/>
                </a:cubicBezTo>
                <a:cubicBezTo>
                  <a:pt x="16012" y="4869"/>
                  <a:pt x="16095" y="4948"/>
                  <a:pt x="16173" y="5035"/>
                </a:cubicBezTo>
                <a:cubicBezTo>
                  <a:pt x="16231" y="5099"/>
                  <a:pt x="16271" y="5169"/>
                  <a:pt x="16321" y="5234"/>
                </a:cubicBezTo>
                <a:cubicBezTo>
                  <a:pt x="16267" y="5212"/>
                  <a:pt x="16250" y="5208"/>
                  <a:pt x="16197" y="5184"/>
                </a:cubicBezTo>
                <a:cubicBezTo>
                  <a:pt x="16175" y="5161"/>
                  <a:pt x="16170" y="5153"/>
                  <a:pt x="16148" y="5159"/>
                </a:cubicBezTo>
                <a:cubicBezTo>
                  <a:pt x="16173" y="5170"/>
                  <a:pt x="16197" y="5324"/>
                  <a:pt x="16272" y="5283"/>
                </a:cubicBezTo>
                <a:cubicBezTo>
                  <a:pt x="16351" y="5240"/>
                  <a:pt x="16286" y="5335"/>
                  <a:pt x="16396" y="5110"/>
                </a:cubicBezTo>
                <a:cubicBezTo>
                  <a:pt x="16416" y="5009"/>
                  <a:pt x="16414" y="4989"/>
                  <a:pt x="16446" y="4936"/>
                </a:cubicBezTo>
              </a:path>
              <a:path w="10791" h="5855">
                <a:moveTo>
                  <a:pt x="13196" y="9153"/>
                </a:moveTo>
                <a:cubicBezTo>
                  <a:pt x="13276" y="9173"/>
                  <a:pt x="13348" y="9201"/>
                  <a:pt x="13444" y="9203"/>
                </a:cubicBezTo>
                <a:cubicBezTo>
                  <a:pt x="13684" y="9209"/>
                  <a:pt x="13925" y="9209"/>
                  <a:pt x="14163" y="9252"/>
                </a:cubicBezTo>
                <a:cubicBezTo>
                  <a:pt x="14361" y="9288"/>
                  <a:pt x="14562" y="9319"/>
                  <a:pt x="14759" y="9351"/>
                </a:cubicBezTo>
                <a:cubicBezTo>
                  <a:pt x="14918" y="9377"/>
                  <a:pt x="15068" y="9376"/>
                  <a:pt x="15230" y="9376"/>
                </a:cubicBezTo>
                <a:cubicBezTo>
                  <a:pt x="15430" y="9376"/>
                  <a:pt x="15624" y="9401"/>
                  <a:pt x="15825" y="9401"/>
                </a:cubicBezTo>
                <a:cubicBezTo>
                  <a:pt x="16108" y="9401"/>
                  <a:pt x="16387" y="9342"/>
                  <a:pt x="16669" y="9327"/>
                </a:cubicBezTo>
                <a:cubicBezTo>
                  <a:pt x="16876" y="9316"/>
                  <a:pt x="17083" y="9289"/>
                  <a:pt x="17289" y="9277"/>
                </a:cubicBezTo>
                <a:cubicBezTo>
                  <a:pt x="17569" y="9261"/>
                  <a:pt x="17857" y="9269"/>
                  <a:pt x="18132" y="9252"/>
                </a:cubicBezTo>
                <a:cubicBezTo>
                  <a:pt x="18181" y="9249"/>
                  <a:pt x="18231" y="9254"/>
                  <a:pt x="18281" y="92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19920" y="1616040"/>
            <a:ext cx="169920" cy="241200"/>
          </a:xfrm>
          <a:custGeom>
            <a:avLst/>
            <a:gdLst/>
            <a:ahLst/>
            <a:rect l="l" t="t" r="r" b="b"/>
            <a:pathLst>
              <a:path w="472" h="670">
                <a:moveTo>
                  <a:pt x="19695" y="4490"/>
                </a:moveTo>
                <a:cubicBezTo>
                  <a:pt x="19573" y="4542"/>
                  <a:pt x="19463" y="4608"/>
                  <a:pt x="19323" y="4638"/>
                </a:cubicBezTo>
                <a:cubicBezTo>
                  <a:pt x="19229" y="4658"/>
                  <a:pt x="19283" y="4787"/>
                  <a:pt x="19273" y="4862"/>
                </a:cubicBezTo>
                <a:cubicBezTo>
                  <a:pt x="19265" y="4895"/>
                  <a:pt x="19256" y="4928"/>
                  <a:pt x="19248" y="4961"/>
                </a:cubicBezTo>
                <a:cubicBezTo>
                  <a:pt x="19302" y="4943"/>
                  <a:pt x="19329" y="4856"/>
                  <a:pt x="19422" y="4837"/>
                </a:cubicBezTo>
                <a:cubicBezTo>
                  <a:pt x="19546" y="4811"/>
                  <a:pt x="19731" y="4911"/>
                  <a:pt x="19621" y="5060"/>
                </a:cubicBezTo>
                <a:cubicBezTo>
                  <a:pt x="19535" y="5178"/>
                  <a:pt x="19374" y="5159"/>
                  <a:pt x="19248" y="5159"/>
                </a:cubicBezTo>
                <a:cubicBezTo>
                  <a:pt x="19240" y="5159"/>
                  <a:pt x="19232" y="5159"/>
                  <a:pt x="19224" y="51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4040" y="1768320"/>
            <a:ext cx="152280" cy="88920"/>
          </a:xfrm>
          <a:custGeom>
            <a:avLst/>
            <a:gdLst/>
            <a:ahLst/>
            <a:rect l="l" t="t" r="r" b="b"/>
            <a:pathLst>
              <a:path w="423" h="249">
                <a:moveTo>
                  <a:pt x="20290" y="4911"/>
                </a:moveTo>
                <a:cubicBezTo>
                  <a:pt x="20406" y="4911"/>
                  <a:pt x="20522" y="4911"/>
                  <a:pt x="20638" y="4911"/>
                </a:cubicBezTo>
              </a:path>
              <a:path w="423" h="249">
                <a:moveTo>
                  <a:pt x="20365" y="5159"/>
                </a:moveTo>
                <a:cubicBezTo>
                  <a:pt x="20474" y="5144"/>
                  <a:pt x="20575" y="5135"/>
                  <a:pt x="20687" y="5135"/>
                </a:cubicBezTo>
                <a:cubicBezTo>
                  <a:pt x="20695" y="5135"/>
                  <a:pt x="20704" y="5135"/>
                  <a:pt x="20712" y="51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05800" y="1625760"/>
            <a:ext cx="322200" cy="249120"/>
          </a:xfrm>
          <a:custGeom>
            <a:avLst/>
            <a:gdLst/>
            <a:ahLst/>
            <a:rect l="l" t="t" r="r" b="b"/>
            <a:pathLst>
              <a:path w="894" h="696">
                <a:moveTo>
                  <a:pt x="21406" y="4663"/>
                </a:moveTo>
                <a:cubicBezTo>
                  <a:pt x="21487" y="4599"/>
                  <a:pt x="21529" y="4580"/>
                  <a:pt x="21630" y="4564"/>
                </a:cubicBezTo>
                <a:cubicBezTo>
                  <a:pt x="21701" y="4734"/>
                  <a:pt x="21602" y="4833"/>
                  <a:pt x="21530" y="4986"/>
                </a:cubicBezTo>
                <a:cubicBezTo>
                  <a:pt x="21487" y="5078"/>
                  <a:pt x="21484" y="5138"/>
                  <a:pt x="21406" y="5184"/>
                </a:cubicBezTo>
                <a:cubicBezTo>
                  <a:pt x="21489" y="5167"/>
                  <a:pt x="21562" y="5084"/>
                  <a:pt x="21654" y="5110"/>
                </a:cubicBezTo>
                <a:cubicBezTo>
                  <a:pt x="21797" y="5150"/>
                  <a:pt x="21703" y="5214"/>
                  <a:pt x="21853" y="5184"/>
                </a:cubicBezTo>
              </a:path>
              <a:path w="894" h="696">
                <a:moveTo>
                  <a:pt x="22101" y="4614"/>
                </a:moveTo>
                <a:cubicBezTo>
                  <a:pt x="22003" y="4638"/>
                  <a:pt x="21978" y="4779"/>
                  <a:pt x="21952" y="4862"/>
                </a:cubicBezTo>
                <a:cubicBezTo>
                  <a:pt x="21928" y="4957"/>
                  <a:pt x="21917" y="4986"/>
                  <a:pt x="21977" y="5035"/>
                </a:cubicBezTo>
                <a:cubicBezTo>
                  <a:pt x="22162" y="5035"/>
                  <a:pt x="22318" y="4949"/>
                  <a:pt x="22299" y="4713"/>
                </a:cubicBezTo>
                <a:cubicBezTo>
                  <a:pt x="22279" y="4475"/>
                  <a:pt x="22105" y="4509"/>
                  <a:pt x="21952" y="45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56120" y="1741320"/>
            <a:ext cx="196920" cy="187560"/>
          </a:xfrm>
          <a:custGeom>
            <a:avLst/>
            <a:gdLst/>
            <a:ahLst/>
            <a:rect l="l" t="t" r="r" b="b"/>
            <a:pathLst>
              <a:path w="546" h="522">
                <a:moveTo>
                  <a:pt x="14312" y="4936"/>
                </a:moveTo>
                <a:cubicBezTo>
                  <a:pt x="14261" y="4910"/>
                  <a:pt x="14207" y="4845"/>
                  <a:pt x="14139" y="4837"/>
                </a:cubicBezTo>
                <a:cubicBezTo>
                  <a:pt x="14024" y="4824"/>
                  <a:pt x="13953" y="4859"/>
                  <a:pt x="13891" y="4936"/>
                </a:cubicBezTo>
                <a:cubicBezTo>
                  <a:pt x="13864" y="4970"/>
                  <a:pt x="13866" y="4968"/>
                  <a:pt x="13866" y="5011"/>
                </a:cubicBezTo>
                <a:cubicBezTo>
                  <a:pt x="13988" y="5064"/>
                  <a:pt x="14168" y="5066"/>
                  <a:pt x="14238" y="5184"/>
                </a:cubicBezTo>
                <a:cubicBezTo>
                  <a:pt x="14302" y="5292"/>
                  <a:pt x="14206" y="5306"/>
                  <a:pt x="14114" y="5333"/>
                </a:cubicBezTo>
                <a:cubicBezTo>
                  <a:pt x="14008" y="5364"/>
                  <a:pt x="13911" y="5343"/>
                  <a:pt x="13816" y="5283"/>
                </a:cubicBezTo>
                <a:cubicBezTo>
                  <a:pt x="13780" y="5260"/>
                  <a:pt x="13777" y="5265"/>
                  <a:pt x="13767" y="52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67080" y="2411280"/>
            <a:ext cx="1204920" cy="196920"/>
          </a:xfrm>
          <a:custGeom>
            <a:avLst/>
            <a:gdLst/>
            <a:ahLst/>
            <a:rect l="l" t="t" r="r" b="b"/>
            <a:pathLst>
              <a:path w="3350" h="547">
                <a:moveTo>
                  <a:pt x="9699" y="6796"/>
                </a:moveTo>
                <a:cubicBezTo>
                  <a:pt x="9618" y="6776"/>
                  <a:pt x="9575" y="6715"/>
                  <a:pt x="9475" y="6772"/>
                </a:cubicBezTo>
                <a:cubicBezTo>
                  <a:pt x="9395" y="6817"/>
                  <a:pt x="9368" y="6893"/>
                  <a:pt x="9351" y="6970"/>
                </a:cubicBezTo>
                <a:cubicBezTo>
                  <a:pt x="9554" y="6960"/>
                  <a:pt x="9680" y="6889"/>
                  <a:pt x="9748" y="7094"/>
                </a:cubicBezTo>
                <a:cubicBezTo>
                  <a:pt x="9704" y="7150"/>
                  <a:pt x="9461" y="7374"/>
                  <a:pt x="9401" y="7169"/>
                </a:cubicBezTo>
                <a:cubicBezTo>
                  <a:pt x="9409" y="7136"/>
                  <a:pt x="9418" y="7102"/>
                  <a:pt x="9426" y="7069"/>
                </a:cubicBezTo>
              </a:path>
              <a:path w="3350" h="547">
                <a:moveTo>
                  <a:pt x="9847" y="6846"/>
                </a:moveTo>
                <a:cubicBezTo>
                  <a:pt x="9918" y="6925"/>
                  <a:pt x="10042" y="7009"/>
                  <a:pt x="10096" y="7094"/>
                </a:cubicBezTo>
                <a:cubicBezTo>
                  <a:pt x="10096" y="7102"/>
                  <a:pt x="10096" y="7111"/>
                  <a:pt x="10096" y="7119"/>
                </a:cubicBezTo>
              </a:path>
              <a:path w="3350" h="547">
                <a:moveTo>
                  <a:pt x="10071" y="6796"/>
                </a:moveTo>
                <a:cubicBezTo>
                  <a:pt x="10035" y="6907"/>
                  <a:pt x="9907" y="7183"/>
                  <a:pt x="9922" y="7243"/>
                </a:cubicBezTo>
              </a:path>
              <a:path w="3350" h="547">
                <a:moveTo>
                  <a:pt x="10666" y="6722"/>
                </a:moveTo>
                <a:cubicBezTo>
                  <a:pt x="10537" y="6746"/>
                  <a:pt x="10504" y="6649"/>
                  <a:pt x="10443" y="6796"/>
                </a:cubicBezTo>
                <a:cubicBezTo>
                  <a:pt x="10435" y="6829"/>
                  <a:pt x="10426" y="6863"/>
                  <a:pt x="10418" y="6896"/>
                </a:cubicBezTo>
                <a:cubicBezTo>
                  <a:pt x="10418" y="6924"/>
                  <a:pt x="10420" y="6935"/>
                  <a:pt x="10443" y="6945"/>
                </a:cubicBezTo>
                <a:cubicBezTo>
                  <a:pt x="10541" y="6929"/>
                  <a:pt x="10690" y="6864"/>
                  <a:pt x="10765" y="6970"/>
                </a:cubicBezTo>
                <a:cubicBezTo>
                  <a:pt x="10877" y="7127"/>
                  <a:pt x="10580" y="7185"/>
                  <a:pt x="10492" y="7169"/>
                </a:cubicBezTo>
                <a:cubicBezTo>
                  <a:pt x="10463" y="7139"/>
                  <a:pt x="10458" y="7124"/>
                  <a:pt x="10492" y="7094"/>
                </a:cubicBezTo>
              </a:path>
              <a:path w="3350" h="547">
                <a:moveTo>
                  <a:pt x="11088" y="6846"/>
                </a:moveTo>
                <a:cubicBezTo>
                  <a:pt x="11179" y="6820"/>
                  <a:pt x="11304" y="6764"/>
                  <a:pt x="11361" y="6821"/>
                </a:cubicBezTo>
              </a:path>
              <a:path w="3350" h="547">
                <a:moveTo>
                  <a:pt x="11088" y="6995"/>
                </a:moveTo>
                <a:cubicBezTo>
                  <a:pt x="11220" y="6987"/>
                  <a:pt x="11309" y="6965"/>
                  <a:pt x="11435" y="6921"/>
                </a:cubicBezTo>
              </a:path>
              <a:path w="3350" h="547">
                <a:moveTo>
                  <a:pt x="11708" y="6697"/>
                </a:moveTo>
                <a:cubicBezTo>
                  <a:pt x="11825" y="6721"/>
                  <a:pt x="11868" y="6855"/>
                  <a:pt x="11832" y="6970"/>
                </a:cubicBezTo>
                <a:cubicBezTo>
                  <a:pt x="11788" y="7110"/>
                  <a:pt x="11687" y="7102"/>
                  <a:pt x="11584" y="7094"/>
                </a:cubicBezTo>
                <a:cubicBezTo>
                  <a:pt x="11610" y="6990"/>
                  <a:pt x="11727" y="7030"/>
                  <a:pt x="11807" y="7045"/>
                </a:cubicBezTo>
                <a:cubicBezTo>
                  <a:pt x="11996" y="7081"/>
                  <a:pt x="11921" y="7179"/>
                  <a:pt x="12055" y="7045"/>
                </a:cubicBezTo>
              </a:path>
              <a:path w="3350" h="547">
                <a:moveTo>
                  <a:pt x="12402" y="6772"/>
                </a:moveTo>
                <a:cubicBezTo>
                  <a:pt x="12259" y="6862"/>
                  <a:pt x="12247" y="6938"/>
                  <a:pt x="12303" y="7094"/>
                </a:cubicBezTo>
                <a:cubicBezTo>
                  <a:pt x="12423" y="7109"/>
                  <a:pt x="12677" y="7103"/>
                  <a:pt x="12700" y="6921"/>
                </a:cubicBezTo>
                <a:cubicBezTo>
                  <a:pt x="12716" y="6797"/>
                  <a:pt x="12490" y="6803"/>
                  <a:pt x="12427" y="67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32640" y="2419200"/>
            <a:ext cx="563400" cy="216000"/>
          </a:xfrm>
          <a:custGeom>
            <a:avLst/>
            <a:gdLst/>
            <a:ahLst/>
            <a:rect l="l" t="t" r="r" b="b"/>
            <a:pathLst>
              <a:path w="1563" h="596">
                <a:moveTo>
                  <a:pt x="16371" y="6722"/>
                </a:moveTo>
                <a:cubicBezTo>
                  <a:pt x="16253" y="6722"/>
                  <a:pt x="16141" y="6741"/>
                  <a:pt x="16024" y="6747"/>
                </a:cubicBezTo>
                <a:cubicBezTo>
                  <a:pt x="15936" y="6752"/>
                  <a:pt x="15953" y="6928"/>
                  <a:pt x="15949" y="6995"/>
                </a:cubicBezTo>
                <a:cubicBezTo>
                  <a:pt x="15949" y="7003"/>
                  <a:pt x="15949" y="7012"/>
                  <a:pt x="15949" y="7020"/>
                </a:cubicBezTo>
                <a:cubicBezTo>
                  <a:pt x="16070" y="6985"/>
                  <a:pt x="16202" y="6912"/>
                  <a:pt x="16321" y="7020"/>
                </a:cubicBezTo>
                <a:cubicBezTo>
                  <a:pt x="16481" y="7166"/>
                  <a:pt x="16163" y="7268"/>
                  <a:pt x="16073" y="7268"/>
                </a:cubicBezTo>
                <a:cubicBezTo>
                  <a:pt x="16026" y="7268"/>
                  <a:pt x="15975" y="7243"/>
                  <a:pt x="15925" y="7243"/>
                </a:cubicBezTo>
              </a:path>
              <a:path w="1563" h="596">
                <a:moveTo>
                  <a:pt x="16694" y="7020"/>
                </a:moveTo>
                <a:cubicBezTo>
                  <a:pt x="16694" y="6973"/>
                  <a:pt x="16710" y="6937"/>
                  <a:pt x="16669" y="6921"/>
                </a:cubicBezTo>
                <a:cubicBezTo>
                  <a:pt x="16533" y="6868"/>
                  <a:pt x="16514" y="6955"/>
                  <a:pt x="16495" y="7069"/>
                </a:cubicBezTo>
                <a:cubicBezTo>
                  <a:pt x="16554" y="7128"/>
                  <a:pt x="16683" y="7052"/>
                  <a:pt x="16768" y="7094"/>
                </a:cubicBezTo>
                <a:cubicBezTo>
                  <a:pt x="16829" y="7156"/>
                  <a:pt x="16853" y="7162"/>
                  <a:pt x="16842" y="7218"/>
                </a:cubicBezTo>
                <a:cubicBezTo>
                  <a:pt x="16738" y="7338"/>
                  <a:pt x="16670" y="7316"/>
                  <a:pt x="16520" y="7293"/>
                </a:cubicBezTo>
                <a:cubicBezTo>
                  <a:pt x="16473" y="7293"/>
                  <a:pt x="16477" y="7275"/>
                  <a:pt x="16545" y="7218"/>
                </a:cubicBezTo>
              </a:path>
              <a:path w="1563" h="596">
                <a:moveTo>
                  <a:pt x="17140" y="6995"/>
                </a:moveTo>
                <a:cubicBezTo>
                  <a:pt x="17225" y="6975"/>
                  <a:pt x="17303" y="6965"/>
                  <a:pt x="17388" y="6945"/>
                </a:cubicBezTo>
              </a:path>
              <a:path w="1563" h="596">
                <a:moveTo>
                  <a:pt x="17165" y="7119"/>
                </a:moveTo>
                <a:cubicBezTo>
                  <a:pt x="17271" y="7111"/>
                  <a:pt x="17397" y="7108"/>
                  <a:pt x="17487" y="70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38960" y="2428920"/>
            <a:ext cx="365040" cy="196920"/>
          </a:xfrm>
          <a:custGeom>
            <a:avLst/>
            <a:gdLst/>
            <a:ahLst/>
            <a:rect l="l" t="t" r="r" b="b"/>
            <a:pathLst>
              <a:path w="1018" h="547">
                <a:moveTo>
                  <a:pt x="17934" y="6846"/>
                </a:moveTo>
                <a:cubicBezTo>
                  <a:pt x="18031" y="6708"/>
                  <a:pt x="18229" y="6727"/>
                  <a:pt x="18281" y="6945"/>
                </a:cubicBezTo>
                <a:cubicBezTo>
                  <a:pt x="18338" y="7182"/>
                  <a:pt x="18069" y="7266"/>
                  <a:pt x="17909" y="7293"/>
                </a:cubicBezTo>
                <a:cubicBezTo>
                  <a:pt x="17895" y="7126"/>
                  <a:pt x="17973" y="7093"/>
                  <a:pt x="18132" y="7169"/>
                </a:cubicBezTo>
                <a:cubicBezTo>
                  <a:pt x="18243" y="7222"/>
                  <a:pt x="18234" y="7276"/>
                  <a:pt x="18331" y="7193"/>
                </a:cubicBezTo>
              </a:path>
              <a:path w="1018" h="547">
                <a:moveTo>
                  <a:pt x="18678" y="6846"/>
                </a:moveTo>
                <a:cubicBezTo>
                  <a:pt x="18560" y="6943"/>
                  <a:pt x="18529" y="7034"/>
                  <a:pt x="18554" y="7193"/>
                </a:cubicBezTo>
                <a:cubicBezTo>
                  <a:pt x="18701" y="7210"/>
                  <a:pt x="18918" y="7219"/>
                  <a:pt x="18901" y="6995"/>
                </a:cubicBezTo>
                <a:cubicBezTo>
                  <a:pt x="18889" y="6833"/>
                  <a:pt x="18707" y="6876"/>
                  <a:pt x="18604" y="68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86040" y="2544840"/>
            <a:ext cx="3768840" cy="428400"/>
          </a:xfrm>
          <a:custGeom>
            <a:avLst/>
            <a:gdLst/>
            <a:ahLst/>
            <a:rect l="l" t="t" r="r" b="b"/>
            <a:pathLst>
              <a:path w="10469" h="1192">
                <a:moveTo>
                  <a:pt x="8111" y="7888"/>
                </a:moveTo>
                <a:cubicBezTo>
                  <a:pt x="8126" y="7843"/>
                  <a:pt x="8332" y="7887"/>
                  <a:pt x="8384" y="7888"/>
                </a:cubicBezTo>
                <a:cubicBezTo>
                  <a:pt x="8483" y="7888"/>
                  <a:pt x="8500" y="7888"/>
                  <a:pt x="8558" y="7888"/>
                </a:cubicBezTo>
              </a:path>
              <a:path w="10469" h="1192">
                <a:moveTo>
                  <a:pt x="8384" y="7615"/>
                </a:moveTo>
                <a:cubicBezTo>
                  <a:pt x="8376" y="7615"/>
                  <a:pt x="8367" y="7615"/>
                  <a:pt x="8359" y="7615"/>
                </a:cubicBezTo>
              </a:path>
              <a:path w="10469" h="1192">
                <a:moveTo>
                  <a:pt x="8285" y="8161"/>
                </a:moveTo>
                <a:cubicBezTo>
                  <a:pt x="8277" y="8161"/>
                  <a:pt x="8268" y="8161"/>
                  <a:pt x="8260" y="8161"/>
                </a:cubicBezTo>
              </a:path>
              <a:path w="10469" h="1192">
                <a:moveTo>
                  <a:pt x="14759" y="7739"/>
                </a:moveTo>
                <a:cubicBezTo>
                  <a:pt x="14746" y="7854"/>
                  <a:pt x="14724" y="7910"/>
                  <a:pt x="14684" y="8012"/>
                </a:cubicBezTo>
                <a:cubicBezTo>
                  <a:pt x="14684" y="8112"/>
                  <a:pt x="14703" y="7864"/>
                  <a:pt x="14709" y="7764"/>
                </a:cubicBezTo>
                <a:cubicBezTo>
                  <a:pt x="14709" y="7665"/>
                  <a:pt x="14709" y="7648"/>
                  <a:pt x="14709" y="7590"/>
                </a:cubicBezTo>
                <a:cubicBezTo>
                  <a:pt x="14797" y="7712"/>
                  <a:pt x="14871" y="7854"/>
                  <a:pt x="14982" y="7962"/>
                </a:cubicBezTo>
                <a:cubicBezTo>
                  <a:pt x="15063" y="8023"/>
                  <a:pt x="15075" y="8038"/>
                  <a:pt x="15131" y="8062"/>
                </a:cubicBezTo>
                <a:cubicBezTo>
                  <a:pt x="15172" y="7913"/>
                  <a:pt x="15156" y="7748"/>
                  <a:pt x="15156" y="7590"/>
                </a:cubicBezTo>
                <a:cubicBezTo>
                  <a:pt x="15156" y="7532"/>
                  <a:pt x="15156" y="7491"/>
                  <a:pt x="15156" y="7541"/>
                </a:cubicBezTo>
              </a:path>
              <a:path w="10469" h="1192">
                <a:moveTo>
                  <a:pt x="7863" y="8062"/>
                </a:moveTo>
                <a:cubicBezTo>
                  <a:pt x="7906" y="8146"/>
                  <a:pt x="7963" y="8231"/>
                  <a:pt x="8062" y="8260"/>
                </a:cubicBezTo>
                <a:cubicBezTo>
                  <a:pt x="8186" y="8297"/>
                  <a:pt x="8385" y="8260"/>
                  <a:pt x="8508" y="8235"/>
                </a:cubicBezTo>
                <a:cubicBezTo>
                  <a:pt x="8627" y="8211"/>
                  <a:pt x="8689" y="8179"/>
                  <a:pt x="8781" y="8111"/>
                </a:cubicBezTo>
                <a:cubicBezTo>
                  <a:pt x="8940" y="7993"/>
                  <a:pt x="8919" y="7913"/>
                  <a:pt x="8905" y="7739"/>
                </a:cubicBezTo>
                <a:cubicBezTo>
                  <a:pt x="8893" y="7591"/>
                  <a:pt x="8906" y="7471"/>
                  <a:pt x="8781" y="7367"/>
                </a:cubicBezTo>
                <a:cubicBezTo>
                  <a:pt x="8702" y="7301"/>
                  <a:pt x="8584" y="7255"/>
                  <a:pt x="8483" y="7243"/>
                </a:cubicBezTo>
                <a:cubicBezTo>
                  <a:pt x="8343" y="7227"/>
                  <a:pt x="8157" y="7270"/>
                  <a:pt x="8037" y="7342"/>
                </a:cubicBezTo>
                <a:cubicBezTo>
                  <a:pt x="7870" y="7442"/>
                  <a:pt x="7748" y="7598"/>
                  <a:pt x="7739" y="7789"/>
                </a:cubicBezTo>
                <a:cubicBezTo>
                  <a:pt x="7733" y="7907"/>
                  <a:pt x="7772" y="8079"/>
                  <a:pt x="7863" y="8161"/>
                </a:cubicBezTo>
                <a:cubicBezTo>
                  <a:pt x="7911" y="8204"/>
                  <a:pt x="7951" y="8197"/>
                  <a:pt x="8012" y="8210"/>
                </a:cubicBezTo>
              </a:path>
              <a:path w="10469" h="1192">
                <a:moveTo>
                  <a:pt x="8930" y="7739"/>
                </a:moveTo>
                <a:cubicBezTo>
                  <a:pt x="8962" y="7733"/>
                  <a:pt x="8972" y="7720"/>
                  <a:pt x="9004" y="7714"/>
                </a:cubicBezTo>
                <a:cubicBezTo>
                  <a:pt x="9037" y="7708"/>
                  <a:pt x="9046" y="7696"/>
                  <a:pt x="9079" y="7689"/>
                </a:cubicBezTo>
                <a:cubicBezTo>
                  <a:pt x="9161" y="7672"/>
                  <a:pt x="9243" y="7659"/>
                  <a:pt x="9327" y="7640"/>
                </a:cubicBezTo>
                <a:cubicBezTo>
                  <a:pt x="9449" y="7612"/>
                  <a:pt x="9574" y="7585"/>
                  <a:pt x="9699" y="7565"/>
                </a:cubicBezTo>
                <a:cubicBezTo>
                  <a:pt x="9863" y="7539"/>
                  <a:pt x="10032" y="7516"/>
                  <a:pt x="10195" y="7491"/>
                </a:cubicBezTo>
                <a:cubicBezTo>
                  <a:pt x="10354" y="7466"/>
                  <a:pt x="10509" y="7426"/>
                  <a:pt x="10666" y="7392"/>
                </a:cubicBezTo>
                <a:cubicBezTo>
                  <a:pt x="10779" y="7367"/>
                  <a:pt x="10897" y="7344"/>
                  <a:pt x="11013" y="7317"/>
                </a:cubicBezTo>
                <a:cubicBezTo>
                  <a:pt x="11162" y="7283"/>
                  <a:pt x="11310" y="7262"/>
                  <a:pt x="11460" y="7243"/>
                </a:cubicBezTo>
                <a:cubicBezTo>
                  <a:pt x="11600" y="7226"/>
                  <a:pt x="11739" y="7220"/>
                  <a:pt x="11881" y="7218"/>
                </a:cubicBezTo>
                <a:cubicBezTo>
                  <a:pt x="12231" y="7213"/>
                  <a:pt x="12575" y="7239"/>
                  <a:pt x="12923" y="7243"/>
                </a:cubicBezTo>
                <a:cubicBezTo>
                  <a:pt x="13120" y="7245"/>
                  <a:pt x="13326" y="7250"/>
                  <a:pt x="13519" y="7218"/>
                </a:cubicBezTo>
                <a:cubicBezTo>
                  <a:pt x="13651" y="7196"/>
                  <a:pt x="13784" y="7171"/>
                  <a:pt x="13915" y="7144"/>
                </a:cubicBezTo>
                <a:cubicBezTo>
                  <a:pt x="14047" y="7116"/>
                  <a:pt x="14179" y="7078"/>
                  <a:pt x="14312" y="7069"/>
                </a:cubicBezTo>
                <a:cubicBezTo>
                  <a:pt x="14515" y="7056"/>
                  <a:pt x="14735" y="7060"/>
                  <a:pt x="14932" y="7094"/>
                </a:cubicBezTo>
                <a:cubicBezTo>
                  <a:pt x="15256" y="7151"/>
                  <a:pt x="15631" y="7193"/>
                  <a:pt x="15925" y="7342"/>
                </a:cubicBezTo>
                <a:cubicBezTo>
                  <a:pt x="16047" y="7404"/>
                  <a:pt x="16137" y="7475"/>
                  <a:pt x="16272" y="7516"/>
                </a:cubicBezTo>
                <a:cubicBezTo>
                  <a:pt x="16421" y="7562"/>
                  <a:pt x="16569" y="7601"/>
                  <a:pt x="16718" y="7640"/>
                </a:cubicBezTo>
                <a:cubicBezTo>
                  <a:pt x="16869" y="7679"/>
                  <a:pt x="17031" y="7696"/>
                  <a:pt x="17190" y="7714"/>
                </a:cubicBezTo>
                <a:cubicBezTo>
                  <a:pt x="17337" y="7731"/>
                  <a:pt x="17602" y="7704"/>
                  <a:pt x="17735" y="7764"/>
                </a:cubicBezTo>
                <a:cubicBezTo>
                  <a:pt x="17799" y="7793"/>
                  <a:pt x="17801" y="7758"/>
                  <a:pt x="17859" y="7813"/>
                </a:cubicBezTo>
                <a:cubicBezTo>
                  <a:pt x="17911" y="7862"/>
                  <a:pt x="17887" y="7957"/>
                  <a:pt x="17909" y="8012"/>
                </a:cubicBezTo>
                <a:cubicBezTo>
                  <a:pt x="17924" y="8051"/>
                  <a:pt x="17926" y="8094"/>
                  <a:pt x="17934" y="8136"/>
                </a:cubicBezTo>
                <a:cubicBezTo>
                  <a:pt x="17883" y="8101"/>
                  <a:pt x="17886" y="8096"/>
                  <a:pt x="17835" y="8062"/>
                </a:cubicBezTo>
                <a:cubicBezTo>
                  <a:pt x="17801" y="8040"/>
                  <a:pt x="17766" y="8027"/>
                  <a:pt x="17735" y="8012"/>
                </a:cubicBezTo>
                <a:cubicBezTo>
                  <a:pt x="17753" y="8026"/>
                  <a:pt x="17869" y="8197"/>
                  <a:pt x="17909" y="8186"/>
                </a:cubicBezTo>
                <a:cubicBezTo>
                  <a:pt x="18071" y="8139"/>
                  <a:pt x="18060" y="8026"/>
                  <a:pt x="18157" y="7888"/>
                </a:cubicBezTo>
                <a:cubicBezTo>
                  <a:pt x="18174" y="7871"/>
                  <a:pt x="18190" y="7855"/>
                  <a:pt x="18207" y="78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483320" y="2697120"/>
            <a:ext cx="250920" cy="196920"/>
          </a:xfrm>
          <a:custGeom>
            <a:avLst/>
            <a:gdLst/>
            <a:ahLst/>
            <a:rect l="l" t="t" r="r" b="b"/>
            <a:pathLst>
              <a:path w="696" h="547">
                <a:moveTo>
                  <a:pt x="20861" y="7590"/>
                </a:moveTo>
                <a:cubicBezTo>
                  <a:pt x="20838" y="7666"/>
                  <a:pt x="20816" y="7740"/>
                  <a:pt x="20786" y="7813"/>
                </a:cubicBezTo>
                <a:cubicBezTo>
                  <a:pt x="20847" y="7835"/>
                  <a:pt x="21027" y="7903"/>
                  <a:pt x="21084" y="7838"/>
                </a:cubicBezTo>
                <a:cubicBezTo>
                  <a:pt x="21092" y="7813"/>
                  <a:pt x="21101" y="7789"/>
                  <a:pt x="21109" y="7764"/>
                </a:cubicBezTo>
              </a:path>
              <a:path w="696" h="547">
                <a:moveTo>
                  <a:pt x="21059" y="7516"/>
                </a:moveTo>
                <a:cubicBezTo>
                  <a:pt x="21027" y="7691"/>
                  <a:pt x="21006" y="7866"/>
                  <a:pt x="20960" y="8037"/>
                </a:cubicBezTo>
              </a:path>
              <a:path w="696" h="547">
                <a:moveTo>
                  <a:pt x="21481" y="7491"/>
                </a:moveTo>
                <a:cubicBezTo>
                  <a:pt x="21390" y="7491"/>
                  <a:pt x="21240" y="7460"/>
                  <a:pt x="21233" y="7590"/>
                </a:cubicBezTo>
                <a:cubicBezTo>
                  <a:pt x="21225" y="7739"/>
                  <a:pt x="21364" y="7820"/>
                  <a:pt x="21456" y="7913"/>
                </a:cubicBezTo>
                <a:cubicBezTo>
                  <a:pt x="21498" y="7955"/>
                  <a:pt x="21489" y="7979"/>
                  <a:pt x="21406" y="8012"/>
                </a:cubicBezTo>
                <a:cubicBezTo>
                  <a:pt x="21122" y="7978"/>
                  <a:pt x="21284" y="7872"/>
                  <a:pt x="21406" y="7689"/>
                </a:cubicBezTo>
                <a:cubicBezTo>
                  <a:pt x="21537" y="7493"/>
                  <a:pt x="21436" y="7502"/>
                  <a:pt x="21258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00720" y="3446640"/>
            <a:ext cx="803160" cy="223560"/>
          </a:xfrm>
          <a:custGeom>
            <a:avLst/>
            <a:gdLst/>
            <a:ahLst/>
            <a:rect l="l" t="t" r="r" b="b"/>
            <a:pathLst>
              <a:path w="2233" h="621">
                <a:moveTo>
                  <a:pt x="12502" y="9773"/>
                </a:moveTo>
                <a:cubicBezTo>
                  <a:pt x="12502" y="9688"/>
                  <a:pt x="12507" y="9886"/>
                  <a:pt x="12502" y="9971"/>
                </a:cubicBezTo>
                <a:cubicBezTo>
                  <a:pt x="12502" y="9979"/>
                  <a:pt x="12502" y="10192"/>
                  <a:pt x="12502" y="9996"/>
                </a:cubicBezTo>
                <a:cubicBezTo>
                  <a:pt x="12502" y="9952"/>
                  <a:pt x="12516" y="9589"/>
                  <a:pt x="12526" y="9599"/>
                </a:cubicBezTo>
                <a:cubicBezTo>
                  <a:pt x="12656" y="9737"/>
                  <a:pt x="12757" y="9895"/>
                  <a:pt x="12898" y="10021"/>
                </a:cubicBezTo>
                <a:cubicBezTo>
                  <a:pt x="12906" y="10029"/>
                  <a:pt x="12915" y="10038"/>
                  <a:pt x="12923" y="10046"/>
                </a:cubicBezTo>
                <a:cubicBezTo>
                  <a:pt x="12948" y="9896"/>
                  <a:pt x="12948" y="9753"/>
                  <a:pt x="12948" y="9599"/>
                </a:cubicBezTo>
              </a:path>
              <a:path w="2233" h="621">
                <a:moveTo>
                  <a:pt x="13271" y="9798"/>
                </a:moveTo>
                <a:cubicBezTo>
                  <a:pt x="13388" y="9848"/>
                  <a:pt x="13459" y="9847"/>
                  <a:pt x="13593" y="9847"/>
                </a:cubicBezTo>
              </a:path>
              <a:path w="2233" h="621">
                <a:moveTo>
                  <a:pt x="13419" y="9575"/>
                </a:moveTo>
                <a:lnTo>
                  <a:pt x="13419" y="9575"/>
                </a:lnTo>
              </a:path>
              <a:path w="2233" h="621">
                <a:moveTo>
                  <a:pt x="13469" y="10145"/>
                </a:moveTo>
                <a:cubicBezTo>
                  <a:pt x="13469" y="10137"/>
                  <a:pt x="13469" y="10128"/>
                  <a:pt x="13469" y="10120"/>
                </a:cubicBezTo>
              </a:path>
              <a:path w="2233" h="621">
                <a:moveTo>
                  <a:pt x="13915" y="9723"/>
                </a:moveTo>
                <a:cubicBezTo>
                  <a:pt x="13915" y="9832"/>
                  <a:pt x="13902" y="9893"/>
                  <a:pt x="14039" y="9922"/>
                </a:cubicBezTo>
                <a:cubicBezTo>
                  <a:pt x="14166" y="9949"/>
                  <a:pt x="14186" y="9909"/>
                  <a:pt x="14238" y="9823"/>
                </a:cubicBezTo>
              </a:path>
              <a:path w="2233" h="621">
                <a:moveTo>
                  <a:pt x="14188" y="9649"/>
                </a:moveTo>
                <a:cubicBezTo>
                  <a:pt x="14188" y="9772"/>
                  <a:pt x="14130" y="10043"/>
                  <a:pt x="14213" y="10145"/>
                </a:cubicBezTo>
                <a:cubicBezTo>
                  <a:pt x="14221" y="10137"/>
                  <a:pt x="14230" y="10128"/>
                  <a:pt x="14238" y="10120"/>
                </a:cubicBezTo>
              </a:path>
              <a:path w="2233" h="621">
                <a:moveTo>
                  <a:pt x="14709" y="9748"/>
                </a:moveTo>
                <a:cubicBezTo>
                  <a:pt x="14600" y="9715"/>
                  <a:pt x="14587" y="9726"/>
                  <a:pt x="14486" y="9773"/>
                </a:cubicBezTo>
                <a:cubicBezTo>
                  <a:pt x="14497" y="9921"/>
                  <a:pt x="14718" y="9981"/>
                  <a:pt x="14709" y="10120"/>
                </a:cubicBezTo>
                <a:cubicBezTo>
                  <a:pt x="14693" y="10145"/>
                  <a:pt x="14676" y="10170"/>
                  <a:pt x="14660" y="10195"/>
                </a:cubicBezTo>
                <a:cubicBezTo>
                  <a:pt x="14444" y="10141"/>
                  <a:pt x="14523" y="10067"/>
                  <a:pt x="14635" y="9922"/>
                </a:cubicBezTo>
                <a:cubicBezTo>
                  <a:pt x="14698" y="9841"/>
                  <a:pt x="14739" y="9832"/>
                  <a:pt x="14709" y="97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38880" y="3571920"/>
            <a:ext cx="98280" cy="63360"/>
          </a:xfrm>
          <a:custGeom>
            <a:avLst/>
            <a:gdLst/>
            <a:ahLst/>
            <a:rect l="l" t="t" r="r" b="b"/>
            <a:pathLst>
              <a:path w="274" h="175">
                <a:moveTo>
                  <a:pt x="15106" y="9947"/>
                </a:moveTo>
                <a:cubicBezTo>
                  <a:pt x="15157" y="9937"/>
                  <a:pt x="15254" y="9886"/>
                  <a:pt x="15304" y="9922"/>
                </a:cubicBezTo>
                <a:cubicBezTo>
                  <a:pt x="15304" y="9930"/>
                  <a:pt x="15304" y="9939"/>
                  <a:pt x="15304" y="9947"/>
                </a:cubicBezTo>
              </a:path>
              <a:path w="274" h="175">
                <a:moveTo>
                  <a:pt x="15106" y="10071"/>
                </a:moveTo>
                <a:cubicBezTo>
                  <a:pt x="15202" y="10093"/>
                  <a:pt x="15279" y="10096"/>
                  <a:pt x="15379" y="100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05640" y="3500280"/>
            <a:ext cx="260280" cy="206640"/>
          </a:xfrm>
          <a:custGeom>
            <a:avLst/>
            <a:gdLst/>
            <a:ahLst/>
            <a:rect l="l" t="t" r="r" b="b"/>
            <a:pathLst>
              <a:path w="721" h="572">
                <a:moveTo>
                  <a:pt x="15850" y="9723"/>
                </a:moveTo>
                <a:cubicBezTo>
                  <a:pt x="15850" y="9891"/>
                  <a:pt x="15869" y="10053"/>
                  <a:pt x="15875" y="10220"/>
                </a:cubicBezTo>
                <a:cubicBezTo>
                  <a:pt x="15875" y="10244"/>
                  <a:pt x="15875" y="10252"/>
                  <a:pt x="15875" y="10220"/>
                </a:cubicBezTo>
              </a:path>
              <a:path w="721" h="572">
                <a:moveTo>
                  <a:pt x="16098" y="9872"/>
                </a:moveTo>
                <a:cubicBezTo>
                  <a:pt x="16191" y="9835"/>
                  <a:pt x="16322" y="9768"/>
                  <a:pt x="16396" y="9872"/>
                </a:cubicBezTo>
                <a:cubicBezTo>
                  <a:pt x="16500" y="10017"/>
                  <a:pt x="16306" y="10142"/>
                  <a:pt x="16222" y="10220"/>
                </a:cubicBezTo>
                <a:cubicBezTo>
                  <a:pt x="16206" y="10236"/>
                  <a:pt x="16189" y="10253"/>
                  <a:pt x="16173" y="10269"/>
                </a:cubicBezTo>
                <a:cubicBezTo>
                  <a:pt x="16305" y="10296"/>
                  <a:pt x="16433" y="10294"/>
                  <a:pt x="16570" y="102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02280" y="3402000"/>
            <a:ext cx="339840" cy="527040"/>
          </a:xfrm>
          <a:custGeom>
            <a:avLst/>
            <a:gdLst/>
            <a:ahLst/>
            <a:rect l="l" t="t" r="r" b="b"/>
            <a:pathLst>
              <a:path w="944" h="1464">
                <a:moveTo>
                  <a:pt x="19496" y="9550"/>
                </a:moveTo>
                <a:cubicBezTo>
                  <a:pt x="19531" y="9653"/>
                  <a:pt x="19536" y="9803"/>
                  <a:pt x="19546" y="9922"/>
                </a:cubicBezTo>
                <a:cubicBezTo>
                  <a:pt x="19546" y="9787"/>
                  <a:pt x="19531" y="9659"/>
                  <a:pt x="19521" y="9525"/>
                </a:cubicBezTo>
                <a:cubicBezTo>
                  <a:pt x="19521" y="9500"/>
                  <a:pt x="19521" y="9476"/>
                  <a:pt x="19521" y="9451"/>
                </a:cubicBezTo>
                <a:cubicBezTo>
                  <a:pt x="19583" y="9504"/>
                  <a:pt x="19860" y="9870"/>
                  <a:pt x="19943" y="9847"/>
                </a:cubicBezTo>
                <a:cubicBezTo>
                  <a:pt x="20016" y="9827"/>
                  <a:pt x="19992" y="9505"/>
                  <a:pt x="19968" y="9451"/>
                </a:cubicBezTo>
              </a:path>
              <a:path w="944" h="1464">
                <a:moveTo>
                  <a:pt x="19174" y="10220"/>
                </a:moveTo>
                <a:cubicBezTo>
                  <a:pt x="19463" y="10173"/>
                  <a:pt x="19754" y="10179"/>
                  <a:pt x="20042" y="10145"/>
                </a:cubicBezTo>
                <a:cubicBezTo>
                  <a:pt x="20100" y="10126"/>
                  <a:pt x="20125" y="10099"/>
                  <a:pt x="20117" y="10145"/>
                </a:cubicBezTo>
              </a:path>
              <a:path w="944" h="1464">
                <a:moveTo>
                  <a:pt x="19348" y="10418"/>
                </a:moveTo>
                <a:cubicBezTo>
                  <a:pt x="19348" y="10518"/>
                  <a:pt x="19278" y="10656"/>
                  <a:pt x="19422" y="10666"/>
                </a:cubicBezTo>
                <a:cubicBezTo>
                  <a:pt x="19539" y="10674"/>
                  <a:pt x="19672" y="10622"/>
                  <a:pt x="19720" y="10567"/>
                </a:cubicBezTo>
              </a:path>
              <a:path w="944" h="1464">
                <a:moveTo>
                  <a:pt x="19571" y="10393"/>
                </a:moveTo>
                <a:cubicBezTo>
                  <a:pt x="19571" y="10559"/>
                  <a:pt x="19511" y="10760"/>
                  <a:pt x="19521" y="10914"/>
                </a:cubicBezTo>
                <a:cubicBezTo>
                  <a:pt x="19529" y="10914"/>
                  <a:pt x="19538" y="10914"/>
                  <a:pt x="19546" y="10914"/>
                </a:cubicBezTo>
              </a:path>
              <a:path w="944" h="1464">
                <a:moveTo>
                  <a:pt x="20117" y="10443"/>
                </a:moveTo>
                <a:cubicBezTo>
                  <a:pt x="20022" y="10467"/>
                  <a:pt x="19992" y="10473"/>
                  <a:pt x="19943" y="10517"/>
                </a:cubicBezTo>
                <a:cubicBezTo>
                  <a:pt x="19980" y="10642"/>
                  <a:pt x="20149" y="10706"/>
                  <a:pt x="20117" y="10840"/>
                </a:cubicBezTo>
                <a:cubicBezTo>
                  <a:pt x="20060" y="10896"/>
                  <a:pt x="20034" y="10912"/>
                  <a:pt x="19968" y="10889"/>
                </a:cubicBezTo>
                <a:cubicBezTo>
                  <a:pt x="19984" y="10751"/>
                  <a:pt x="20052" y="10647"/>
                  <a:pt x="20067" y="10517"/>
                </a:cubicBezTo>
                <a:cubicBezTo>
                  <a:pt x="20067" y="10509"/>
                  <a:pt x="20067" y="10500"/>
                  <a:pt x="20067" y="104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19960" y="3562200"/>
            <a:ext cx="492120" cy="189000"/>
          </a:xfrm>
          <a:custGeom>
            <a:avLst/>
            <a:gdLst/>
            <a:ahLst/>
            <a:rect l="l" t="t" r="r" b="b"/>
            <a:pathLst>
              <a:path w="1365" h="522">
                <a:moveTo>
                  <a:pt x="20613" y="10244"/>
                </a:moveTo>
                <a:cubicBezTo>
                  <a:pt x="20712" y="10223"/>
                  <a:pt x="20891" y="10151"/>
                  <a:pt x="20811" y="10269"/>
                </a:cubicBezTo>
              </a:path>
              <a:path w="1365" h="522">
                <a:moveTo>
                  <a:pt x="20613" y="10368"/>
                </a:moveTo>
                <a:cubicBezTo>
                  <a:pt x="20729" y="10346"/>
                  <a:pt x="20763" y="10340"/>
                  <a:pt x="20836" y="10319"/>
                </a:cubicBezTo>
              </a:path>
              <a:path w="1365" h="522">
                <a:moveTo>
                  <a:pt x="20836" y="10319"/>
                </a:moveTo>
                <a:lnTo>
                  <a:pt x="20836" y="10319"/>
                </a:lnTo>
              </a:path>
              <a:path w="1365" h="522">
                <a:moveTo>
                  <a:pt x="21208" y="9971"/>
                </a:moveTo>
                <a:cubicBezTo>
                  <a:pt x="21249" y="10116"/>
                  <a:pt x="21296" y="10237"/>
                  <a:pt x="21307" y="10393"/>
                </a:cubicBezTo>
                <a:cubicBezTo>
                  <a:pt x="21307" y="10426"/>
                  <a:pt x="21307" y="10426"/>
                  <a:pt x="21307" y="10368"/>
                </a:cubicBezTo>
              </a:path>
              <a:path w="1365" h="522">
                <a:moveTo>
                  <a:pt x="21580" y="9922"/>
                </a:moveTo>
                <a:cubicBezTo>
                  <a:pt x="21694" y="9897"/>
                  <a:pt x="21763" y="9902"/>
                  <a:pt x="21878" y="9922"/>
                </a:cubicBezTo>
                <a:cubicBezTo>
                  <a:pt x="21844" y="10106"/>
                  <a:pt x="21726" y="10167"/>
                  <a:pt x="21630" y="10319"/>
                </a:cubicBezTo>
                <a:cubicBezTo>
                  <a:pt x="21600" y="10366"/>
                  <a:pt x="21938" y="10299"/>
                  <a:pt x="21977" y="102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60720" y="3741840"/>
            <a:ext cx="1697040" cy="357120"/>
          </a:xfrm>
          <a:custGeom>
            <a:avLst/>
            <a:gdLst/>
            <a:ahLst/>
            <a:rect l="l" t="t" r="r" b="b"/>
            <a:pathLst>
              <a:path w="4714" h="993">
                <a:moveTo>
                  <a:pt x="9451" y="10592"/>
                </a:moveTo>
                <a:cubicBezTo>
                  <a:pt x="9320" y="10592"/>
                  <a:pt x="9226" y="10615"/>
                  <a:pt x="9103" y="10666"/>
                </a:cubicBezTo>
                <a:cubicBezTo>
                  <a:pt x="9087" y="10674"/>
                  <a:pt x="9070" y="10683"/>
                  <a:pt x="9054" y="10691"/>
                </a:cubicBezTo>
                <a:cubicBezTo>
                  <a:pt x="9133" y="10726"/>
                  <a:pt x="9418" y="10731"/>
                  <a:pt x="9426" y="10864"/>
                </a:cubicBezTo>
                <a:cubicBezTo>
                  <a:pt x="9436" y="11023"/>
                  <a:pt x="9279" y="10974"/>
                  <a:pt x="9203" y="10964"/>
                </a:cubicBezTo>
                <a:cubicBezTo>
                  <a:pt x="9255" y="10850"/>
                  <a:pt x="9341" y="10782"/>
                  <a:pt x="9401" y="10691"/>
                </a:cubicBezTo>
              </a:path>
              <a:path w="4714" h="993">
                <a:moveTo>
                  <a:pt x="9599" y="10492"/>
                </a:moveTo>
                <a:cubicBezTo>
                  <a:pt x="9599" y="10587"/>
                  <a:pt x="9553" y="10940"/>
                  <a:pt x="9624" y="10964"/>
                </a:cubicBezTo>
              </a:path>
              <a:path w="4714" h="993">
                <a:moveTo>
                  <a:pt x="6697" y="10716"/>
                </a:moveTo>
                <a:cubicBezTo>
                  <a:pt x="6666" y="10696"/>
                  <a:pt x="6672" y="10690"/>
                  <a:pt x="6672" y="10641"/>
                </a:cubicBezTo>
                <a:cubicBezTo>
                  <a:pt x="6672" y="10804"/>
                  <a:pt x="6666" y="10952"/>
                  <a:pt x="6648" y="11112"/>
                </a:cubicBezTo>
                <a:cubicBezTo>
                  <a:pt x="6648" y="11120"/>
                  <a:pt x="6648" y="11129"/>
                  <a:pt x="6648" y="11137"/>
                </a:cubicBezTo>
              </a:path>
              <a:path w="4714" h="993">
                <a:moveTo>
                  <a:pt x="6400" y="10939"/>
                </a:moveTo>
                <a:cubicBezTo>
                  <a:pt x="6559" y="10913"/>
                  <a:pt x="6710" y="10889"/>
                  <a:pt x="6871" y="10889"/>
                </a:cubicBezTo>
                <a:cubicBezTo>
                  <a:pt x="6879" y="10889"/>
                  <a:pt x="6888" y="10889"/>
                  <a:pt x="6896" y="10889"/>
                </a:cubicBezTo>
              </a:path>
              <a:path w="4714" h="993">
                <a:moveTo>
                  <a:pt x="6077" y="10790"/>
                </a:moveTo>
                <a:cubicBezTo>
                  <a:pt x="6036" y="10842"/>
                  <a:pt x="5995" y="10896"/>
                  <a:pt x="6028" y="11013"/>
                </a:cubicBezTo>
                <a:cubicBezTo>
                  <a:pt x="6121" y="11348"/>
                  <a:pt x="6459" y="11438"/>
                  <a:pt x="6772" y="11385"/>
                </a:cubicBezTo>
                <a:cubicBezTo>
                  <a:pt x="7085" y="11332"/>
                  <a:pt x="7422" y="11125"/>
                  <a:pt x="7293" y="10765"/>
                </a:cubicBezTo>
                <a:cubicBezTo>
                  <a:pt x="7197" y="10496"/>
                  <a:pt x="6742" y="10402"/>
                  <a:pt x="6499" y="10468"/>
                </a:cubicBezTo>
                <a:cubicBezTo>
                  <a:pt x="6210" y="10547"/>
                  <a:pt x="5834" y="10894"/>
                  <a:pt x="6077" y="11212"/>
                </a:cubicBezTo>
                <a:cubicBezTo>
                  <a:pt x="6259" y="11342"/>
                  <a:pt x="6326" y="11379"/>
                  <a:pt x="6474" y="11237"/>
                </a:cubicBezTo>
              </a:path>
              <a:path w="4714" h="993">
                <a:moveTo>
                  <a:pt x="7243" y="10716"/>
                </a:moveTo>
                <a:cubicBezTo>
                  <a:pt x="7211" y="10732"/>
                  <a:pt x="7225" y="10724"/>
                  <a:pt x="7193" y="10740"/>
                </a:cubicBezTo>
                <a:cubicBezTo>
                  <a:pt x="7206" y="10738"/>
                  <a:pt x="7450" y="10632"/>
                  <a:pt x="7491" y="10616"/>
                </a:cubicBezTo>
                <a:cubicBezTo>
                  <a:pt x="7823" y="10487"/>
                  <a:pt x="8132" y="10455"/>
                  <a:pt x="8483" y="10418"/>
                </a:cubicBezTo>
                <a:cubicBezTo>
                  <a:pt x="8740" y="10391"/>
                  <a:pt x="8972" y="10431"/>
                  <a:pt x="9227" y="10443"/>
                </a:cubicBezTo>
                <a:cubicBezTo>
                  <a:pt x="9443" y="10454"/>
                  <a:pt x="9658" y="10441"/>
                  <a:pt x="9872" y="10468"/>
                </a:cubicBezTo>
                <a:cubicBezTo>
                  <a:pt x="9997" y="10484"/>
                  <a:pt x="10121" y="10527"/>
                  <a:pt x="10244" y="10542"/>
                </a:cubicBezTo>
                <a:cubicBezTo>
                  <a:pt x="10380" y="10559"/>
                  <a:pt x="10497" y="10593"/>
                  <a:pt x="10616" y="10666"/>
                </a:cubicBezTo>
                <a:cubicBezTo>
                  <a:pt x="10665" y="10696"/>
                  <a:pt x="10685" y="10724"/>
                  <a:pt x="10716" y="10765"/>
                </a:cubicBezTo>
                <a:cubicBezTo>
                  <a:pt x="10716" y="10790"/>
                  <a:pt x="10716" y="10798"/>
                  <a:pt x="10716" y="10765"/>
                </a:cubicBezTo>
                <a:cubicBezTo>
                  <a:pt x="10716" y="10674"/>
                  <a:pt x="10716" y="10583"/>
                  <a:pt x="10716" y="10492"/>
                </a:cubicBezTo>
                <a:cubicBezTo>
                  <a:pt x="10705" y="10605"/>
                  <a:pt x="10736" y="10653"/>
                  <a:pt x="10641" y="10716"/>
                </a:cubicBezTo>
                <a:cubicBezTo>
                  <a:pt x="10583" y="10754"/>
                  <a:pt x="10452" y="10739"/>
                  <a:pt x="10443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0720" y="3705120"/>
            <a:ext cx="465120" cy="260280"/>
          </a:xfrm>
          <a:custGeom>
            <a:avLst/>
            <a:gdLst/>
            <a:ahLst/>
            <a:rect l="l" t="t" r="r" b="b"/>
            <a:pathLst>
              <a:path w="1290" h="720">
                <a:moveTo>
                  <a:pt x="12526" y="10567"/>
                </a:moveTo>
                <a:cubicBezTo>
                  <a:pt x="12526" y="10508"/>
                  <a:pt x="12511" y="10633"/>
                  <a:pt x="12502" y="10691"/>
                </a:cubicBezTo>
                <a:cubicBezTo>
                  <a:pt x="12490" y="10765"/>
                  <a:pt x="12740" y="10695"/>
                  <a:pt x="12774" y="10691"/>
                </a:cubicBezTo>
              </a:path>
              <a:path w="1290" h="720">
                <a:moveTo>
                  <a:pt x="12774" y="10443"/>
                </a:moveTo>
                <a:cubicBezTo>
                  <a:pt x="12756" y="10592"/>
                  <a:pt x="12714" y="10740"/>
                  <a:pt x="12700" y="10889"/>
                </a:cubicBezTo>
                <a:cubicBezTo>
                  <a:pt x="12700" y="10922"/>
                  <a:pt x="12700" y="10955"/>
                  <a:pt x="12700" y="10988"/>
                </a:cubicBezTo>
              </a:path>
              <a:path w="1290" h="720">
                <a:moveTo>
                  <a:pt x="13122" y="10368"/>
                </a:moveTo>
                <a:cubicBezTo>
                  <a:pt x="13114" y="10376"/>
                  <a:pt x="13105" y="10385"/>
                  <a:pt x="13097" y="10393"/>
                </a:cubicBezTo>
                <a:cubicBezTo>
                  <a:pt x="13121" y="10464"/>
                  <a:pt x="13205" y="10366"/>
                  <a:pt x="13271" y="10393"/>
                </a:cubicBezTo>
                <a:cubicBezTo>
                  <a:pt x="13336" y="10419"/>
                  <a:pt x="13216" y="10514"/>
                  <a:pt x="13171" y="10567"/>
                </a:cubicBezTo>
                <a:cubicBezTo>
                  <a:pt x="13280" y="10512"/>
                  <a:pt x="13339" y="10589"/>
                  <a:pt x="13246" y="10691"/>
                </a:cubicBezTo>
                <a:cubicBezTo>
                  <a:pt x="13151" y="10795"/>
                  <a:pt x="13019" y="10781"/>
                  <a:pt x="13047" y="10641"/>
                </a:cubicBezTo>
              </a:path>
              <a:path w="1290" h="720">
                <a:moveTo>
                  <a:pt x="13419" y="10294"/>
                </a:moveTo>
                <a:cubicBezTo>
                  <a:pt x="13406" y="10495"/>
                  <a:pt x="13349" y="10671"/>
                  <a:pt x="13295" y="10864"/>
                </a:cubicBezTo>
                <a:cubicBezTo>
                  <a:pt x="13275" y="10935"/>
                  <a:pt x="13240" y="11001"/>
                  <a:pt x="13295" y="10964"/>
                </a:cubicBezTo>
              </a:path>
              <a:path w="1290" h="720">
                <a:moveTo>
                  <a:pt x="13593" y="10641"/>
                </a:moveTo>
                <a:cubicBezTo>
                  <a:pt x="13571" y="10684"/>
                  <a:pt x="13552" y="10720"/>
                  <a:pt x="13543" y="10765"/>
                </a:cubicBezTo>
                <a:cubicBezTo>
                  <a:pt x="13631" y="10809"/>
                  <a:pt x="13698" y="10778"/>
                  <a:pt x="13791" y="10740"/>
                </a:cubicBezTo>
              </a:path>
              <a:path w="1290" h="720">
                <a:moveTo>
                  <a:pt x="13742" y="10468"/>
                </a:moveTo>
                <a:cubicBezTo>
                  <a:pt x="13703" y="10614"/>
                  <a:pt x="13648" y="10785"/>
                  <a:pt x="13667" y="10939"/>
                </a:cubicBezTo>
                <a:cubicBezTo>
                  <a:pt x="13675" y="10964"/>
                  <a:pt x="13684" y="10988"/>
                  <a:pt x="13692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75000" y="4527720"/>
            <a:ext cx="268200" cy="250560"/>
          </a:xfrm>
          <a:custGeom>
            <a:avLst/>
            <a:gdLst/>
            <a:ahLst/>
            <a:rect l="l" t="t" r="r" b="b"/>
            <a:pathLst>
              <a:path w="745" h="696">
                <a:moveTo>
                  <a:pt x="9798" y="12576"/>
                </a:moveTo>
                <a:cubicBezTo>
                  <a:pt x="9627" y="12645"/>
                  <a:pt x="9516" y="12706"/>
                  <a:pt x="9376" y="12824"/>
                </a:cubicBezTo>
                <a:cubicBezTo>
                  <a:pt x="9472" y="12892"/>
                  <a:pt x="9877" y="13016"/>
                  <a:pt x="9748" y="13196"/>
                </a:cubicBezTo>
                <a:cubicBezTo>
                  <a:pt x="9707" y="13221"/>
                  <a:pt x="9665" y="13246"/>
                  <a:pt x="9624" y="13271"/>
                </a:cubicBezTo>
                <a:cubicBezTo>
                  <a:pt x="9581" y="13080"/>
                  <a:pt x="9735" y="12937"/>
                  <a:pt x="9847" y="12750"/>
                </a:cubicBezTo>
              </a:path>
              <a:path w="745" h="696">
                <a:moveTo>
                  <a:pt x="10096" y="12576"/>
                </a:moveTo>
                <a:cubicBezTo>
                  <a:pt x="10129" y="12755"/>
                  <a:pt x="10120" y="12938"/>
                  <a:pt x="10120" y="13122"/>
                </a:cubicBezTo>
                <a:cubicBezTo>
                  <a:pt x="10120" y="13130"/>
                  <a:pt x="10120" y="13138"/>
                  <a:pt x="10120" y="131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57760" y="4419720"/>
            <a:ext cx="428400" cy="295200"/>
          </a:xfrm>
          <a:custGeom>
            <a:avLst/>
            <a:gdLst/>
            <a:ahLst/>
            <a:rect l="l" t="t" r="r" b="b"/>
            <a:pathLst>
              <a:path w="1191" h="820">
                <a:moveTo>
                  <a:pt x="11658" y="12278"/>
                </a:moveTo>
                <a:cubicBezTo>
                  <a:pt x="11658" y="12303"/>
                  <a:pt x="11658" y="12311"/>
                  <a:pt x="11658" y="12328"/>
                </a:cubicBezTo>
              </a:path>
              <a:path w="1191" h="820">
                <a:moveTo>
                  <a:pt x="10815" y="12774"/>
                </a:moveTo>
                <a:cubicBezTo>
                  <a:pt x="10853" y="12882"/>
                  <a:pt x="10931" y="13048"/>
                  <a:pt x="10840" y="13047"/>
                </a:cubicBezTo>
              </a:path>
              <a:path w="1191" h="820">
                <a:moveTo>
                  <a:pt x="10716" y="12973"/>
                </a:moveTo>
                <a:cubicBezTo>
                  <a:pt x="10874" y="12928"/>
                  <a:pt x="11024" y="12900"/>
                  <a:pt x="11187" y="12874"/>
                </a:cubicBezTo>
              </a:path>
              <a:path w="1191" h="820">
                <a:moveTo>
                  <a:pt x="11534" y="12626"/>
                </a:moveTo>
                <a:cubicBezTo>
                  <a:pt x="11534" y="12700"/>
                  <a:pt x="11534" y="12775"/>
                  <a:pt x="11534" y="12849"/>
                </a:cubicBezTo>
                <a:cubicBezTo>
                  <a:pt x="11729" y="12849"/>
                  <a:pt x="11789" y="12850"/>
                  <a:pt x="11906" y="12700"/>
                </a:cubicBezTo>
              </a:path>
              <a:path w="1191" h="820">
                <a:moveTo>
                  <a:pt x="11807" y="12477"/>
                </a:moveTo>
                <a:cubicBezTo>
                  <a:pt x="11779" y="12665"/>
                  <a:pt x="11764" y="12856"/>
                  <a:pt x="11757" y="13047"/>
                </a:cubicBezTo>
                <a:cubicBezTo>
                  <a:pt x="11757" y="13075"/>
                  <a:pt x="11759" y="13086"/>
                  <a:pt x="11782" y="130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29080" y="4367160"/>
            <a:ext cx="455760" cy="374760"/>
          </a:xfrm>
          <a:custGeom>
            <a:avLst/>
            <a:gdLst/>
            <a:ahLst/>
            <a:rect l="l" t="t" r="r" b="b"/>
            <a:pathLst>
              <a:path w="1266" h="1043">
                <a:moveTo>
                  <a:pt x="12477" y="12278"/>
                </a:moveTo>
                <a:cubicBezTo>
                  <a:pt x="12557" y="12229"/>
                  <a:pt x="12595" y="12222"/>
                  <a:pt x="12675" y="12229"/>
                </a:cubicBezTo>
                <a:cubicBezTo>
                  <a:pt x="12657" y="12295"/>
                  <a:pt x="12530" y="12494"/>
                  <a:pt x="12526" y="12402"/>
                </a:cubicBezTo>
                <a:cubicBezTo>
                  <a:pt x="12649" y="12414"/>
                  <a:pt x="12774" y="12452"/>
                  <a:pt x="12576" y="12551"/>
                </a:cubicBezTo>
                <a:cubicBezTo>
                  <a:pt x="12460" y="12609"/>
                  <a:pt x="12384" y="12616"/>
                  <a:pt x="12303" y="12551"/>
                </a:cubicBezTo>
              </a:path>
              <a:path w="1266" h="1043">
                <a:moveTo>
                  <a:pt x="13022" y="12129"/>
                </a:moveTo>
                <a:cubicBezTo>
                  <a:pt x="12948" y="12379"/>
                  <a:pt x="12921" y="12656"/>
                  <a:pt x="12824" y="12898"/>
                </a:cubicBezTo>
                <a:cubicBezTo>
                  <a:pt x="12807" y="12923"/>
                  <a:pt x="12791" y="12948"/>
                  <a:pt x="12774" y="12973"/>
                </a:cubicBezTo>
              </a:path>
              <a:path w="1266" h="1043">
                <a:moveTo>
                  <a:pt x="13271" y="12626"/>
                </a:moveTo>
                <a:cubicBezTo>
                  <a:pt x="13247" y="12684"/>
                  <a:pt x="13215" y="12744"/>
                  <a:pt x="13196" y="12799"/>
                </a:cubicBezTo>
                <a:cubicBezTo>
                  <a:pt x="13345" y="12863"/>
                  <a:pt x="13429" y="12864"/>
                  <a:pt x="13568" y="12774"/>
                </a:cubicBezTo>
              </a:path>
              <a:path w="1266" h="1043">
                <a:moveTo>
                  <a:pt x="13494" y="12601"/>
                </a:moveTo>
                <a:cubicBezTo>
                  <a:pt x="13450" y="12791"/>
                  <a:pt x="13432" y="12975"/>
                  <a:pt x="13419" y="131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11240" y="3438360"/>
            <a:ext cx="17640" cy="214560"/>
          </a:xfrm>
          <a:custGeom>
            <a:avLst/>
            <a:gdLst/>
            <a:ahLst/>
            <a:rect l="l" t="t" r="r" b="b"/>
            <a:pathLst>
              <a:path w="51" h="596">
                <a:moveTo>
                  <a:pt x="5358" y="9550"/>
                </a:moveTo>
                <a:cubicBezTo>
                  <a:pt x="5285" y="9574"/>
                  <a:pt x="5309" y="9767"/>
                  <a:pt x="5308" y="9823"/>
                </a:cubicBezTo>
                <a:cubicBezTo>
                  <a:pt x="5308" y="9829"/>
                  <a:pt x="5308" y="10174"/>
                  <a:pt x="5308" y="101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62080" y="3429000"/>
            <a:ext cx="144720" cy="206280"/>
          </a:xfrm>
          <a:custGeom>
            <a:avLst/>
            <a:gdLst/>
            <a:ahLst/>
            <a:rect l="l" t="t" r="r" b="b"/>
            <a:pathLst>
              <a:path w="398" h="572">
                <a:moveTo>
                  <a:pt x="5804" y="9550"/>
                </a:moveTo>
                <a:cubicBezTo>
                  <a:pt x="5779" y="9550"/>
                  <a:pt x="5771" y="9550"/>
                  <a:pt x="5779" y="9525"/>
                </a:cubicBezTo>
              </a:path>
              <a:path w="398" h="572">
                <a:moveTo>
                  <a:pt x="5779" y="9525"/>
                </a:moveTo>
                <a:lnTo>
                  <a:pt x="5779" y="9525"/>
                </a:lnTo>
              </a:path>
              <a:path w="398" h="572">
                <a:moveTo>
                  <a:pt x="5779" y="9525"/>
                </a:moveTo>
                <a:lnTo>
                  <a:pt x="5779" y="9525"/>
                </a:lnTo>
              </a:path>
              <a:path w="398" h="572">
                <a:moveTo>
                  <a:pt x="5779" y="9525"/>
                </a:moveTo>
                <a:lnTo>
                  <a:pt x="5779" y="9525"/>
                </a:lnTo>
              </a:path>
              <a:path w="398" h="572">
                <a:moveTo>
                  <a:pt x="5779" y="9599"/>
                </a:moveTo>
                <a:cubicBezTo>
                  <a:pt x="5779" y="9591"/>
                  <a:pt x="5779" y="9583"/>
                  <a:pt x="5779" y="9575"/>
                </a:cubicBezTo>
              </a:path>
              <a:path w="398" h="572">
                <a:moveTo>
                  <a:pt x="5779" y="9575"/>
                </a:moveTo>
                <a:lnTo>
                  <a:pt x="5779" y="9575"/>
                </a:lnTo>
              </a:path>
              <a:path w="398" h="572">
                <a:moveTo>
                  <a:pt x="5779" y="9575"/>
                </a:moveTo>
                <a:lnTo>
                  <a:pt x="5779" y="9575"/>
                </a:lnTo>
              </a:path>
              <a:path w="398" h="572">
                <a:moveTo>
                  <a:pt x="5854" y="9723"/>
                </a:moveTo>
                <a:cubicBezTo>
                  <a:pt x="5836" y="9698"/>
                  <a:pt x="5817" y="9697"/>
                  <a:pt x="5779" y="9674"/>
                </a:cubicBezTo>
                <a:cubicBezTo>
                  <a:pt x="5820" y="9625"/>
                  <a:pt x="5892" y="9484"/>
                  <a:pt x="5978" y="9575"/>
                </a:cubicBezTo>
                <a:cubicBezTo>
                  <a:pt x="6112" y="9717"/>
                  <a:pt x="5894" y="9955"/>
                  <a:pt x="5804" y="10046"/>
                </a:cubicBezTo>
                <a:cubicBezTo>
                  <a:pt x="5779" y="10063"/>
                  <a:pt x="5755" y="10079"/>
                  <a:pt x="5730" y="10096"/>
                </a:cubicBezTo>
                <a:cubicBezTo>
                  <a:pt x="5847" y="10089"/>
                  <a:pt x="5960" y="10071"/>
                  <a:pt x="6077" y="10071"/>
                </a:cubicBezTo>
                <a:cubicBezTo>
                  <a:pt x="6102" y="10071"/>
                  <a:pt x="6110" y="10071"/>
                  <a:pt x="6127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57280" y="3544920"/>
            <a:ext cx="135000" cy="81000"/>
          </a:xfrm>
          <a:custGeom>
            <a:avLst/>
            <a:gdLst/>
            <a:ahLst/>
            <a:rect l="l" t="t" r="r" b="b"/>
            <a:pathLst>
              <a:path w="374" h="225">
                <a:moveTo>
                  <a:pt x="6573" y="9847"/>
                </a:moveTo>
                <a:cubicBezTo>
                  <a:pt x="6677" y="9847"/>
                  <a:pt x="6768" y="9861"/>
                  <a:pt x="6871" y="9872"/>
                </a:cubicBezTo>
                <a:cubicBezTo>
                  <a:pt x="6916" y="9872"/>
                  <a:pt x="6936" y="9869"/>
                  <a:pt x="6896" y="9897"/>
                </a:cubicBezTo>
              </a:path>
              <a:path w="374" h="225">
                <a:moveTo>
                  <a:pt x="6548" y="10071"/>
                </a:moveTo>
                <a:cubicBezTo>
                  <a:pt x="6641" y="10071"/>
                  <a:pt x="6729" y="10051"/>
                  <a:pt x="6821" y="10046"/>
                </a:cubicBezTo>
                <a:cubicBezTo>
                  <a:pt x="6829" y="10046"/>
                  <a:pt x="6838" y="10046"/>
                  <a:pt x="6846" y="100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70120" y="3517920"/>
            <a:ext cx="142920" cy="142920"/>
          </a:xfrm>
          <a:custGeom>
            <a:avLst/>
            <a:gdLst/>
            <a:ahLst/>
            <a:rect l="l" t="t" r="r" b="b"/>
            <a:pathLst>
              <a:path w="397" h="398">
                <a:moveTo>
                  <a:pt x="7417" y="9798"/>
                </a:moveTo>
                <a:cubicBezTo>
                  <a:pt x="7417" y="9874"/>
                  <a:pt x="7417" y="10218"/>
                  <a:pt x="7417" y="10120"/>
                </a:cubicBezTo>
                <a:cubicBezTo>
                  <a:pt x="7417" y="10007"/>
                  <a:pt x="7418" y="9907"/>
                  <a:pt x="7441" y="9798"/>
                </a:cubicBezTo>
                <a:cubicBezTo>
                  <a:pt x="7550" y="9825"/>
                  <a:pt x="7610" y="9995"/>
                  <a:pt x="7689" y="10071"/>
                </a:cubicBezTo>
                <a:cubicBezTo>
                  <a:pt x="7749" y="10110"/>
                  <a:pt x="7761" y="10114"/>
                  <a:pt x="7789" y="10145"/>
                </a:cubicBezTo>
                <a:cubicBezTo>
                  <a:pt x="7823" y="10016"/>
                  <a:pt x="7797" y="9947"/>
                  <a:pt x="7764" y="9823"/>
                </a:cubicBezTo>
                <a:cubicBezTo>
                  <a:pt x="7764" y="9798"/>
                  <a:pt x="7764" y="9790"/>
                  <a:pt x="7764" y="97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00240" y="3500280"/>
            <a:ext cx="115920" cy="196920"/>
          </a:xfrm>
          <a:custGeom>
            <a:avLst/>
            <a:gdLst/>
            <a:ahLst/>
            <a:rect l="l" t="t" r="r" b="b"/>
            <a:pathLst>
              <a:path w="324" h="547">
                <a:moveTo>
                  <a:pt x="8334" y="9947"/>
                </a:moveTo>
                <a:cubicBezTo>
                  <a:pt x="8436" y="9958"/>
                  <a:pt x="8530" y="9971"/>
                  <a:pt x="8632" y="9971"/>
                </a:cubicBezTo>
                <a:cubicBezTo>
                  <a:pt x="8640" y="9971"/>
                  <a:pt x="8649" y="9971"/>
                  <a:pt x="8657" y="9971"/>
                </a:cubicBezTo>
              </a:path>
              <a:path w="324" h="547">
                <a:moveTo>
                  <a:pt x="8384" y="9723"/>
                </a:moveTo>
                <a:cubicBezTo>
                  <a:pt x="8359" y="9723"/>
                  <a:pt x="8351" y="9723"/>
                  <a:pt x="8359" y="9748"/>
                </a:cubicBezTo>
              </a:path>
              <a:path w="324" h="547">
                <a:moveTo>
                  <a:pt x="8483" y="10244"/>
                </a:moveTo>
                <a:cubicBezTo>
                  <a:pt x="8475" y="10252"/>
                  <a:pt x="8466" y="10261"/>
                  <a:pt x="8458" y="102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51160" y="3500280"/>
            <a:ext cx="312840" cy="196920"/>
          </a:xfrm>
          <a:custGeom>
            <a:avLst/>
            <a:gdLst/>
            <a:ahLst/>
            <a:rect l="l" t="t" r="r" b="b"/>
            <a:pathLst>
              <a:path w="869" h="547">
                <a:moveTo>
                  <a:pt x="9079" y="9798"/>
                </a:moveTo>
                <a:cubicBezTo>
                  <a:pt x="9055" y="9864"/>
                  <a:pt x="9038" y="9924"/>
                  <a:pt x="9029" y="9996"/>
                </a:cubicBezTo>
                <a:cubicBezTo>
                  <a:pt x="9148" y="10076"/>
                  <a:pt x="9273" y="10037"/>
                  <a:pt x="9426" y="9996"/>
                </a:cubicBezTo>
              </a:path>
              <a:path w="869" h="547">
                <a:moveTo>
                  <a:pt x="9327" y="9723"/>
                </a:moveTo>
                <a:cubicBezTo>
                  <a:pt x="9313" y="9890"/>
                  <a:pt x="9302" y="10051"/>
                  <a:pt x="9302" y="10220"/>
                </a:cubicBezTo>
                <a:cubicBezTo>
                  <a:pt x="9302" y="10261"/>
                  <a:pt x="9294" y="10277"/>
                  <a:pt x="9327" y="10269"/>
                </a:cubicBezTo>
              </a:path>
              <a:path w="869" h="547">
                <a:moveTo>
                  <a:pt x="9897" y="9748"/>
                </a:moveTo>
                <a:cubicBezTo>
                  <a:pt x="9722" y="9772"/>
                  <a:pt x="9652" y="9791"/>
                  <a:pt x="9575" y="9947"/>
                </a:cubicBezTo>
                <a:cubicBezTo>
                  <a:pt x="9699" y="10027"/>
                  <a:pt x="9848" y="10058"/>
                  <a:pt x="9847" y="10195"/>
                </a:cubicBezTo>
                <a:cubicBezTo>
                  <a:pt x="9650" y="10212"/>
                  <a:pt x="9687" y="10092"/>
                  <a:pt x="9798" y="9947"/>
                </a:cubicBezTo>
                <a:cubicBezTo>
                  <a:pt x="9831" y="9914"/>
                  <a:pt x="9864" y="9880"/>
                  <a:pt x="9897" y="98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Unit 5: Expressions, Equations and Integer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549080" y="3809520"/>
            <a:ext cx="6032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tions 3.6, 4.1, 4.2: Simplify numeric expressions using the properties of addition and subtrac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bjective: Simplify numeric expressions using the properties of multiplication and ad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Vocabulary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00"/>
                </a:solidFill>
                <a:latin typeface="Comic Sans MS"/>
              </a:rPr>
              <a:t>Distributive property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4c00"/>
                </a:solidFill>
                <a:latin typeface="Comic Sans MS"/>
              </a:rPr>
              <a:t>You can multiply a number and a sum by multiplying the number by each part of the sum and then adding these product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874800" y="2884320"/>
            <a:ext cx="3956040" cy="63720"/>
          </a:xfrm>
          <a:custGeom>
            <a:avLst/>
            <a:gdLst/>
            <a:ahLst/>
            <a:rect l="l" t="t" r="r" b="b"/>
            <a:pathLst>
              <a:path w="10989" h="175">
                <a:moveTo>
                  <a:pt x="2431" y="8136"/>
                </a:moveTo>
                <a:cubicBezTo>
                  <a:pt x="2544" y="8116"/>
                  <a:pt x="2630" y="8089"/>
                  <a:pt x="2753" y="8086"/>
                </a:cubicBezTo>
                <a:cubicBezTo>
                  <a:pt x="2911" y="8082"/>
                  <a:pt x="3069" y="8095"/>
                  <a:pt x="3225" y="8111"/>
                </a:cubicBezTo>
                <a:cubicBezTo>
                  <a:pt x="3366" y="8125"/>
                  <a:pt x="3503" y="8134"/>
                  <a:pt x="3646" y="8136"/>
                </a:cubicBezTo>
                <a:cubicBezTo>
                  <a:pt x="3807" y="8138"/>
                  <a:pt x="3959" y="8155"/>
                  <a:pt x="4118" y="8161"/>
                </a:cubicBezTo>
                <a:cubicBezTo>
                  <a:pt x="4284" y="8167"/>
                  <a:pt x="4450" y="8153"/>
                  <a:pt x="4614" y="8136"/>
                </a:cubicBezTo>
                <a:cubicBezTo>
                  <a:pt x="4730" y="8124"/>
                  <a:pt x="4845" y="8124"/>
                  <a:pt x="4961" y="8111"/>
                </a:cubicBezTo>
                <a:cubicBezTo>
                  <a:pt x="5092" y="8097"/>
                  <a:pt x="5226" y="8078"/>
                  <a:pt x="5358" y="8062"/>
                </a:cubicBezTo>
                <a:cubicBezTo>
                  <a:pt x="5514" y="8043"/>
                  <a:pt x="5672" y="8019"/>
                  <a:pt x="5829" y="8012"/>
                </a:cubicBezTo>
                <a:cubicBezTo>
                  <a:pt x="5990" y="8005"/>
                  <a:pt x="6145" y="8020"/>
                  <a:pt x="6300" y="8037"/>
                </a:cubicBezTo>
                <a:cubicBezTo>
                  <a:pt x="6399" y="8048"/>
                  <a:pt x="6499" y="8056"/>
                  <a:pt x="6598" y="8062"/>
                </a:cubicBezTo>
                <a:cubicBezTo>
                  <a:pt x="6752" y="8071"/>
                  <a:pt x="6891" y="8091"/>
                  <a:pt x="7045" y="8111"/>
                </a:cubicBezTo>
                <a:cubicBezTo>
                  <a:pt x="7176" y="8128"/>
                  <a:pt x="7309" y="8124"/>
                  <a:pt x="7441" y="8136"/>
                </a:cubicBezTo>
                <a:cubicBezTo>
                  <a:pt x="7543" y="8146"/>
                  <a:pt x="7656" y="8153"/>
                  <a:pt x="7764" y="8161"/>
                </a:cubicBezTo>
                <a:cubicBezTo>
                  <a:pt x="7878" y="8169"/>
                  <a:pt x="7992" y="8184"/>
                  <a:pt x="8111" y="8186"/>
                </a:cubicBezTo>
                <a:cubicBezTo>
                  <a:pt x="8254" y="8188"/>
                  <a:pt x="8392" y="8174"/>
                  <a:pt x="8533" y="8161"/>
                </a:cubicBezTo>
                <a:cubicBezTo>
                  <a:pt x="8682" y="8147"/>
                  <a:pt x="8829" y="8138"/>
                  <a:pt x="8979" y="8136"/>
                </a:cubicBezTo>
                <a:cubicBezTo>
                  <a:pt x="9328" y="8132"/>
                  <a:pt x="9677" y="8127"/>
                  <a:pt x="10021" y="8111"/>
                </a:cubicBezTo>
                <a:cubicBezTo>
                  <a:pt x="10173" y="8104"/>
                  <a:pt x="10320" y="8101"/>
                  <a:pt x="10468" y="8086"/>
                </a:cubicBezTo>
                <a:cubicBezTo>
                  <a:pt x="10583" y="8074"/>
                  <a:pt x="10699" y="8044"/>
                  <a:pt x="10815" y="8037"/>
                </a:cubicBezTo>
                <a:cubicBezTo>
                  <a:pt x="11230" y="8012"/>
                  <a:pt x="11644" y="8057"/>
                  <a:pt x="12055" y="8062"/>
                </a:cubicBezTo>
                <a:cubicBezTo>
                  <a:pt x="12464" y="8067"/>
                  <a:pt x="12867" y="8044"/>
                  <a:pt x="13271" y="8037"/>
                </a:cubicBezTo>
                <a:cubicBezTo>
                  <a:pt x="13320" y="8036"/>
                  <a:pt x="13370" y="8037"/>
                  <a:pt x="13419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se the distributive property to evaluat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1.) 4(8 + 9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2.) 6(12 + 11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3.) 3 x (17 + 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1490760" y="1571760"/>
            <a:ext cx="947520" cy="330120"/>
          </a:xfrm>
          <a:custGeom>
            <a:avLst/>
            <a:gdLst/>
            <a:ahLst/>
            <a:rect l="l" t="t" r="r" b="b"/>
            <a:pathLst>
              <a:path w="2631" h="918">
                <a:moveTo>
                  <a:pt x="4142" y="4638"/>
                </a:moveTo>
                <a:cubicBezTo>
                  <a:pt x="4142" y="4630"/>
                  <a:pt x="4142" y="4622"/>
                  <a:pt x="4142" y="4614"/>
                </a:cubicBezTo>
              </a:path>
              <a:path w="2631" h="918">
                <a:moveTo>
                  <a:pt x="4167" y="5209"/>
                </a:moveTo>
                <a:cubicBezTo>
                  <a:pt x="4167" y="5158"/>
                  <a:pt x="4178" y="5151"/>
                  <a:pt x="4192" y="5110"/>
                </a:cubicBezTo>
                <a:cubicBezTo>
                  <a:pt x="4208" y="5061"/>
                  <a:pt x="4201" y="5032"/>
                  <a:pt x="4242" y="4986"/>
                </a:cubicBezTo>
                <a:cubicBezTo>
                  <a:pt x="4286" y="4936"/>
                  <a:pt x="4313" y="4946"/>
                  <a:pt x="4366" y="4911"/>
                </a:cubicBezTo>
                <a:cubicBezTo>
                  <a:pt x="4404" y="4886"/>
                  <a:pt x="4427" y="4859"/>
                  <a:pt x="4465" y="4837"/>
                </a:cubicBezTo>
                <a:cubicBezTo>
                  <a:pt x="4523" y="4803"/>
                  <a:pt x="4572" y="4812"/>
                  <a:pt x="4638" y="4812"/>
                </a:cubicBezTo>
                <a:cubicBezTo>
                  <a:pt x="4687" y="4812"/>
                  <a:pt x="4713" y="4846"/>
                  <a:pt x="4762" y="4837"/>
                </a:cubicBezTo>
                <a:cubicBezTo>
                  <a:pt x="4823" y="4826"/>
                  <a:pt x="4832" y="4800"/>
                  <a:pt x="4887" y="4837"/>
                </a:cubicBezTo>
                <a:cubicBezTo>
                  <a:pt x="4912" y="4854"/>
                  <a:pt x="4952" y="4907"/>
                  <a:pt x="4961" y="4911"/>
                </a:cubicBezTo>
                <a:cubicBezTo>
                  <a:pt x="5013" y="4936"/>
                  <a:pt x="5013" y="4980"/>
                  <a:pt x="5035" y="5035"/>
                </a:cubicBezTo>
                <a:cubicBezTo>
                  <a:pt x="5051" y="5076"/>
                  <a:pt x="5073" y="5093"/>
                  <a:pt x="5085" y="5135"/>
                </a:cubicBezTo>
                <a:cubicBezTo>
                  <a:pt x="5098" y="5181"/>
                  <a:pt x="5101" y="5238"/>
                  <a:pt x="5110" y="5259"/>
                </a:cubicBezTo>
                <a:cubicBezTo>
                  <a:pt x="5110" y="5267"/>
                  <a:pt x="5110" y="5275"/>
                  <a:pt x="5110" y="5283"/>
                </a:cubicBezTo>
                <a:cubicBezTo>
                  <a:pt x="5110" y="5169"/>
                  <a:pt x="5114" y="5071"/>
                  <a:pt x="5135" y="4961"/>
                </a:cubicBezTo>
                <a:cubicBezTo>
                  <a:pt x="5153" y="4866"/>
                  <a:pt x="5135" y="4966"/>
                  <a:pt x="5135" y="5011"/>
                </a:cubicBezTo>
                <a:cubicBezTo>
                  <a:pt x="5135" y="5105"/>
                  <a:pt x="5125" y="5169"/>
                  <a:pt x="5110" y="5259"/>
                </a:cubicBezTo>
                <a:cubicBezTo>
                  <a:pt x="5078" y="5247"/>
                  <a:pt x="4931" y="5208"/>
                  <a:pt x="4911" y="5184"/>
                </a:cubicBezTo>
                <a:cubicBezTo>
                  <a:pt x="4877" y="5143"/>
                  <a:pt x="4892" y="5166"/>
                  <a:pt x="4837" y="5184"/>
                </a:cubicBezTo>
                <a:cubicBezTo>
                  <a:pt x="4829" y="5184"/>
                  <a:pt x="4820" y="5184"/>
                  <a:pt x="4812" y="5184"/>
                </a:cubicBezTo>
              </a:path>
              <a:path w="2631" h="918">
                <a:moveTo>
                  <a:pt x="4192" y="5184"/>
                </a:moveTo>
                <a:cubicBezTo>
                  <a:pt x="4192" y="5192"/>
                  <a:pt x="4192" y="5201"/>
                  <a:pt x="4192" y="5209"/>
                </a:cubicBezTo>
                <a:cubicBezTo>
                  <a:pt x="4170" y="5143"/>
                  <a:pt x="4158" y="5114"/>
                  <a:pt x="4192" y="5035"/>
                </a:cubicBezTo>
                <a:cubicBezTo>
                  <a:pt x="4236" y="4932"/>
                  <a:pt x="4289" y="4864"/>
                  <a:pt x="4366" y="4787"/>
                </a:cubicBezTo>
                <a:cubicBezTo>
                  <a:pt x="4470" y="4683"/>
                  <a:pt x="4589" y="4615"/>
                  <a:pt x="4713" y="4539"/>
                </a:cubicBezTo>
                <a:cubicBezTo>
                  <a:pt x="4824" y="4471"/>
                  <a:pt x="4933" y="4447"/>
                  <a:pt x="5060" y="4415"/>
                </a:cubicBezTo>
                <a:cubicBezTo>
                  <a:pt x="5181" y="4384"/>
                  <a:pt x="5307" y="4370"/>
                  <a:pt x="5432" y="4366"/>
                </a:cubicBezTo>
                <a:cubicBezTo>
                  <a:pt x="5531" y="4363"/>
                  <a:pt x="5657" y="4374"/>
                  <a:pt x="5755" y="4390"/>
                </a:cubicBezTo>
                <a:cubicBezTo>
                  <a:pt x="5820" y="4400"/>
                  <a:pt x="5888" y="4402"/>
                  <a:pt x="5953" y="4415"/>
                </a:cubicBezTo>
                <a:cubicBezTo>
                  <a:pt x="5993" y="4423"/>
                  <a:pt x="6070" y="4448"/>
                  <a:pt x="6102" y="4465"/>
                </a:cubicBezTo>
                <a:cubicBezTo>
                  <a:pt x="6179" y="4506"/>
                  <a:pt x="6214" y="4560"/>
                  <a:pt x="6276" y="4614"/>
                </a:cubicBezTo>
                <a:cubicBezTo>
                  <a:pt x="6336" y="4666"/>
                  <a:pt x="6413" y="4691"/>
                  <a:pt x="6474" y="4738"/>
                </a:cubicBezTo>
                <a:cubicBezTo>
                  <a:pt x="6545" y="4794"/>
                  <a:pt x="6567" y="4864"/>
                  <a:pt x="6598" y="4936"/>
                </a:cubicBezTo>
                <a:cubicBezTo>
                  <a:pt x="6621" y="4990"/>
                  <a:pt x="6652" y="5031"/>
                  <a:pt x="6672" y="5085"/>
                </a:cubicBezTo>
                <a:cubicBezTo>
                  <a:pt x="6688" y="5128"/>
                  <a:pt x="6706" y="5156"/>
                  <a:pt x="6722" y="5184"/>
                </a:cubicBezTo>
                <a:cubicBezTo>
                  <a:pt x="6722" y="5209"/>
                  <a:pt x="6722" y="5217"/>
                  <a:pt x="6747" y="5209"/>
                </a:cubicBezTo>
                <a:cubicBezTo>
                  <a:pt x="6747" y="5123"/>
                  <a:pt x="6764" y="5032"/>
                  <a:pt x="6772" y="4961"/>
                </a:cubicBezTo>
                <a:cubicBezTo>
                  <a:pt x="6778" y="4912"/>
                  <a:pt x="6772" y="4912"/>
                  <a:pt x="6772" y="4862"/>
                </a:cubicBezTo>
                <a:cubicBezTo>
                  <a:pt x="6767" y="4952"/>
                  <a:pt x="6773" y="5074"/>
                  <a:pt x="6747" y="5159"/>
                </a:cubicBezTo>
                <a:cubicBezTo>
                  <a:pt x="6747" y="5184"/>
                  <a:pt x="6747" y="5192"/>
                  <a:pt x="6722" y="5184"/>
                </a:cubicBezTo>
                <a:cubicBezTo>
                  <a:pt x="6681" y="5149"/>
                  <a:pt x="6631" y="5091"/>
                  <a:pt x="6573" y="5085"/>
                </a:cubicBezTo>
                <a:cubicBezTo>
                  <a:pt x="6478" y="5075"/>
                  <a:pt x="6391" y="5095"/>
                  <a:pt x="6300" y="51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1000" y="1963800"/>
            <a:ext cx="1812960" cy="716040"/>
          </a:xfrm>
          <a:custGeom>
            <a:avLst/>
            <a:gdLst/>
            <a:ahLst/>
            <a:rect l="l" t="t" r="r" b="b"/>
            <a:pathLst>
              <a:path w="5036" h="1985">
                <a:moveTo>
                  <a:pt x="3746" y="6796"/>
                </a:moveTo>
                <a:cubicBezTo>
                  <a:pt x="3630" y="6796"/>
                  <a:pt x="3591" y="6961"/>
                  <a:pt x="3547" y="7045"/>
                </a:cubicBezTo>
                <a:cubicBezTo>
                  <a:pt x="3508" y="7121"/>
                  <a:pt x="3400" y="7336"/>
                  <a:pt x="3497" y="7417"/>
                </a:cubicBezTo>
                <a:cubicBezTo>
                  <a:pt x="3538" y="7437"/>
                  <a:pt x="3544" y="7445"/>
                  <a:pt x="3572" y="7441"/>
                </a:cubicBezTo>
              </a:path>
              <a:path w="5036" h="1985">
                <a:moveTo>
                  <a:pt x="3820" y="6896"/>
                </a:moveTo>
                <a:cubicBezTo>
                  <a:pt x="3806" y="6951"/>
                  <a:pt x="3771" y="7011"/>
                  <a:pt x="3746" y="7069"/>
                </a:cubicBezTo>
                <a:cubicBezTo>
                  <a:pt x="3840" y="7091"/>
                  <a:pt x="3921" y="7094"/>
                  <a:pt x="4018" y="7094"/>
                </a:cubicBezTo>
                <a:cubicBezTo>
                  <a:pt x="4026" y="7094"/>
                  <a:pt x="4035" y="7094"/>
                  <a:pt x="4043" y="7094"/>
                </a:cubicBezTo>
              </a:path>
              <a:path w="5036" h="1985">
                <a:moveTo>
                  <a:pt x="4068" y="6796"/>
                </a:moveTo>
                <a:cubicBezTo>
                  <a:pt x="4023" y="6914"/>
                  <a:pt x="4023" y="7081"/>
                  <a:pt x="4018" y="7218"/>
                </a:cubicBezTo>
                <a:cubicBezTo>
                  <a:pt x="4018" y="7260"/>
                  <a:pt x="4018" y="7268"/>
                  <a:pt x="4018" y="7293"/>
                </a:cubicBezTo>
              </a:path>
              <a:path w="5036" h="1985">
                <a:moveTo>
                  <a:pt x="4415" y="6970"/>
                </a:moveTo>
                <a:cubicBezTo>
                  <a:pt x="4431" y="7066"/>
                  <a:pt x="4498" y="7109"/>
                  <a:pt x="4539" y="7169"/>
                </a:cubicBezTo>
                <a:cubicBezTo>
                  <a:pt x="4539" y="7197"/>
                  <a:pt x="4542" y="7202"/>
                  <a:pt x="4564" y="7169"/>
                </a:cubicBezTo>
              </a:path>
              <a:path w="5036" h="1985">
                <a:moveTo>
                  <a:pt x="4614" y="6871"/>
                </a:moveTo>
                <a:cubicBezTo>
                  <a:pt x="4555" y="6949"/>
                  <a:pt x="4400" y="7117"/>
                  <a:pt x="4390" y="7218"/>
                </a:cubicBezTo>
                <a:cubicBezTo>
                  <a:pt x="4398" y="7218"/>
                  <a:pt x="4407" y="7218"/>
                  <a:pt x="4415" y="7218"/>
                </a:cubicBezTo>
              </a:path>
              <a:path w="5036" h="1985">
                <a:moveTo>
                  <a:pt x="5234" y="6896"/>
                </a:moveTo>
                <a:cubicBezTo>
                  <a:pt x="5171" y="6864"/>
                  <a:pt x="5073" y="6859"/>
                  <a:pt x="5011" y="6921"/>
                </a:cubicBezTo>
                <a:cubicBezTo>
                  <a:pt x="5003" y="6937"/>
                  <a:pt x="4994" y="6954"/>
                  <a:pt x="4986" y="6970"/>
                </a:cubicBezTo>
                <a:cubicBezTo>
                  <a:pt x="5044" y="7047"/>
                  <a:pt x="5182" y="7080"/>
                  <a:pt x="5209" y="7169"/>
                </a:cubicBezTo>
                <a:cubicBezTo>
                  <a:pt x="5246" y="7290"/>
                  <a:pt x="5134" y="7281"/>
                  <a:pt x="5060" y="7293"/>
                </a:cubicBezTo>
                <a:cubicBezTo>
                  <a:pt x="5075" y="7161"/>
                  <a:pt x="5157" y="7091"/>
                  <a:pt x="5209" y="6970"/>
                </a:cubicBezTo>
                <a:cubicBezTo>
                  <a:pt x="5226" y="6930"/>
                  <a:pt x="5203" y="6937"/>
                  <a:pt x="5234" y="6896"/>
                </a:cubicBezTo>
              </a:path>
              <a:path w="5036" h="1985">
                <a:moveTo>
                  <a:pt x="5432" y="6598"/>
                </a:moveTo>
                <a:cubicBezTo>
                  <a:pt x="5565" y="6664"/>
                  <a:pt x="5642" y="6840"/>
                  <a:pt x="5631" y="6995"/>
                </a:cubicBezTo>
                <a:cubicBezTo>
                  <a:pt x="5622" y="7122"/>
                  <a:pt x="5392" y="7203"/>
                  <a:pt x="5482" y="7293"/>
                </a:cubicBezTo>
              </a:path>
              <a:path w="5036" h="1985">
                <a:moveTo>
                  <a:pt x="6573" y="6697"/>
                </a:moveTo>
                <a:cubicBezTo>
                  <a:pt x="6536" y="6586"/>
                  <a:pt x="6456" y="6833"/>
                  <a:pt x="6424" y="6945"/>
                </a:cubicBezTo>
                <a:cubicBezTo>
                  <a:pt x="6388" y="7069"/>
                  <a:pt x="6349" y="7257"/>
                  <a:pt x="6499" y="7317"/>
                </a:cubicBezTo>
                <a:cubicBezTo>
                  <a:pt x="6540" y="7317"/>
                  <a:pt x="6548" y="7317"/>
                  <a:pt x="6573" y="7317"/>
                </a:cubicBezTo>
              </a:path>
              <a:path w="5036" h="1985">
                <a:moveTo>
                  <a:pt x="6796" y="6896"/>
                </a:moveTo>
                <a:cubicBezTo>
                  <a:pt x="6796" y="6888"/>
                  <a:pt x="6796" y="6879"/>
                  <a:pt x="6796" y="6871"/>
                </a:cubicBezTo>
                <a:cubicBezTo>
                  <a:pt x="6772" y="6886"/>
                  <a:pt x="6654" y="7003"/>
                  <a:pt x="6747" y="7045"/>
                </a:cubicBezTo>
                <a:cubicBezTo>
                  <a:pt x="6836" y="7085"/>
                  <a:pt x="6956" y="7050"/>
                  <a:pt x="7020" y="6995"/>
                </a:cubicBezTo>
              </a:path>
              <a:path w="5036" h="1985">
                <a:moveTo>
                  <a:pt x="6945" y="6772"/>
                </a:moveTo>
                <a:cubicBezTo>
                  <a:pt x="6945" y="6900"/>
                  <a:pt x="6944" y="7022"/>
                  <a:pt x="6921" y="7144"/>
                </a:cubicBezTo>
                <a:cubicBezTo>
                  <a:pt x="6921" y="7152"/>
                  <a:pt x="6921" y="7161"/>
                  <a:pt x="6921" y="7169"/>
                </a:cubicBezTo>
              </a:path>
              <a:path w="5036" h="1985">
                <a:moveTo>
                  <a:pt x="7342" y="6821"/>
                </a:moveTo>
                <a:cubicBezTo>
                  <a:pt x="7413" y="6900"/>
                  <a:pt x="7484" y="6980"/>
                  <a:pt x="7541" y="7069"/>
                </a:cubicBezTo>
              </a:path>
              <a:path w="5036" h="1985">
                <a:moveTo>
                  <a:pt x="7565" y="6747"/>
                </a:moveTo>
                <a:cubicBezTo>
                  <a:pt x="7517" y="6883"/>
                  <a:pt x="7464" y="7022"/>
                  <a:pt x="7367" y="7119"/>
                </a:cubicBezTo>
              </a:path>
              <a:path w="5036" h="1985">
                <a:moveTo>
                  <a:pt x="8161" y="6896"/>
                </a:moveTo>
                <a:cubicBezTo>
                  <a:pt x="8142" y="6819"/>
                  <a:pt x="8107" y="6771"/>
                  <a:pt x="8037" y="6722"/>
                </a:cubicBezTo>
                <a:cubicBezTo>
                  <a:pt x="7888" y="6617"/>
                  <a:pt x="7841" y="6858"/>
                  <a:pt x="7813" y="6945"/>
                </a:cubicBezTo>
                <a:cubicBezTo>
                  <a:pt x="7970" y="7040"/>
                  <a:pt x="7965" y="6966"/>
                  <a:pt x="8086" y="6871"/>
                </a:cubicBezTo>
                <a:cubicBezTo>
                  <a:pt x="8111" y="6871"/>
                  <a:pt x="8119" y="6871"/>
                  <a:pt x="8111" y="6846"/>
                </a:cubicBezTo>
                <a:cubicBezTo>
                  <a:pt x="8111" y="6945"/>
                  <a:pt x="8111" y="7045"/>
                  <a:pt x="8111" y="7144"/>
                </a:cubicBezTo>
              </a:path>
              <a:path w="5036" h="1985">
                <a:moveTo>
                  <a:pt x="8186" y="6474"/>
                </a:moveTo>
                <a:cubicBezTo>
                  <a:pt x="8340" y="6500"/>
                  <a:pt x="8368" y="6642"/>
                  <a:pt x="8434" y="6772"/>
                </a:cubicBezTo>
                <a:cubicBezTo>
                  <a:pt x="8548" y="6995"/>
                  <a:pt x="8520" y="7088"/>
                  <a:pt x="8359" y="7268"/>
                </a:cubicBezTo>
                <a:cubicBezTo>
                  <a:pt x="8337" y="7290"/>
                  <a:pt x="8332" y="7299"/>
                  <a:pt x="8310" y="7293"/>
                </a:cubicBezTo>
              </a:path>
              <a:path w="5036" h="1985">
                <a:moveTo>
                  <a:pt x="5779" y="6226"/>
                </a:moveTo>
                <a:cubicBezTo>
                  <a:pt x="5801" y="6270"/>
                  <a:pt x="5807" y="6283"/>
                  <a:pt x="5854" y="6300"/>
                </a:cubicBezTo>
                <a:cubicBezTo>
                  <a:pt x="5933" y="6328"/>
                  <a:pt x="6069" y="6344"/>
                  <a:pt x="6152" y="6325"/>
                </a:cubicBezTo>
                <a:cubicBezTo>
                  <a:pt x="6161" y="6323"/>
                  <a:pt x="6259" y="6283"/>
                  <a:pt x="6300" y="6276"/>
                </a:cubicBezTo>
                <a:cubicBezTo>
                  <a:pt x="6362" y="6266"/>
                  <a:pt x="6399" y="6247"/>
                  <a:pt x="6449" y="6201"/>
                </a:cubicBezTo>
                <a:cubicBezTo>
                  <a:pt x="6512" y="6143"/>
                  <a:pt x="6528" y="6101"/>
                  <a:pt x="6548" y="6028"/>
                </a:cubicBezTo>
                <a:cubicBezTo>
                  <a:pt x="6579" y="5913"/>
                  <a:pt x="6565" y="5954"/>
                  <a:pt x="6548" y="5854"/>
                </a:cubicBezTo>
                <a:cubicBezTo>
                  <a:pt x="6538" y="5793"/>
                  <a:pt x="6513" y="5736"/>
                  <a:pt x="6474" y="5680"/>
                </a:cubicBezTo>
                <a:cubicBezTo>
                  <a:pt x="6462" y="5663"/>
                  <a:pt x="6433" y="5587"/>
                  <a:pt x="6424" y="5581"/>
                </a:cubicBezTo>
                <a:cubicBezTo>
                  <a:pt x="6386" y="5555"/>
                  <a:pt x="6315" y="5528"/>
                  <a:pt x="6276" y="5507"/>
                </a:cubicBezTo>
                <a:cubicBezTo>
                  <a:pt x="6195" y="5464"/>
                  <a:pt x="6167" y="5461"/>
                  <a:pt x="6077" y="5457"/>
                </a:cubicBezTo>
                <a:cubicBezTo>
                  <a:pt x="6021" y="5454"/>
                  <a:pt x="5934" y="5490"/>
                  <a:pt x="5879" y="5507"/>
                </a:cubicBezTo>
                <a:cubicBezTo>
                  <a:pt x="5839" y="5519"/>
                  <a:pt x="5760" y="5614"/>
                  <a:pt x="5730" y="5655"/>
                </a:cubicBezTo>
                <a:cubicBezTo>
                  <a:pt x="5688" y="5712"/>
                  <a:pt x="5675" y="5772"/>
                  <a:pt x="5655" y="5829"/>
                </a:cubicBezTo>
                <a:cubicBezTo>
                  <a:pt x="5636" y="5885"/>
                  <a:pt x="5631" y="5920"/>
                  <a:pt x="5631" y="5978"/>
                </a:cubicBezTo>
                <a:cubicBezTo>
                  <a:pt x="5631" y="6084"/>
                  <a:pt x="5621" y="6232"/>
                  <a:pt x="5655" y="6300"/>
                </a:cubicBezTo>
                <a:cubicBezTo>
                  <a:pt x="5673" y="6336"/>
                  <a:pt x="5707" y="6387"/>
                  <a:pt x="5755" y="6400"/>
                </a:cubicBezTo>
                <a:cubicBezTo>
                  <a:pt x="5780" y="6407"/>
                  <a:pt x="5831" y="6400"/>
                  <a:pt x="5854" y="6400"/>
                </a:cubicBezTo>
              </a:path>
              <a:path w="5036" h="1985">
                <a:moveTo>
                  <a:pt x="6003" y="6846"/>
                </a:moveTo>
                <a:cubicBezTo>
                  <a:pt x="6003" y="6910"/>
                  <a:pt x="6019" y="6962"/>
                  <a:pt x="6028" y="7020"/>
                </a:cubicBezTo>
                <a:cubicBezTo>
                  <a:pt x="6037" y="7074"/>
                  <a:pt x="6028" y="7137"/>
                  <a:pt x="6028" y="7193"/>
                </a:cubicBezTo>
              </a:path>
              <a:path w="5036" h="1985">
                <a:moveTo>
                  <a:pt x="5854" y="7069"/>
                </a:moveTo>
                <a:cubicBezTo>
                  <a:pt x="5866" y="7035"/>
                  <a:pt x="5979" y="7025"/>
                  <a:pt x="6028" y="7020"/>
                </a:cubicBezTo>
                <a:cubicBezTo>
                  <a:pt x="6092" y="7013"/>
                  <a:pt x="6162" y="7020"/>
                  <a:pt x="6226" y="70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82840" y="2714760"/>
            <a:ext cx="303120" cy="196560"/>
          </a:xfrm>
          <a:custGeom>
            <a:avLst/>
            <a:gdLst/>
            <a:ahLst/>
            <a:rect l="l" t="t" r="r" b="b"/>
            <a:pathLst>
              <a:path w="844" h="546">
                <a:moveTo>
                  <a:pt x="4217" y="7665"/>
                </a:moveTo>
                <a:cubicBezTo>
                  <a:pt x="4217" y="7594"/>
                  <a:pt x="4268" y="7576"/>
                  <a:pt x="4341" y="7565"/>
                </a:cubicBezTo>
                <a:cubicBezTo>
                  <a:pt x="4366" y="7565"/>
                  <a:pt x="4390" y="7565"/>
                  <a:pt x="4415" y="7565"/>
                </a:cubicBezTo>
                <a:cubicBezTo>
                  <a:pt x="4461" y="7763"/>
                  <a:pt x="4418" y="7775"/>
                  <a:pt x="4242" y="7863"/>
                </a:cubicBezTo>
                <a:cubicBezTo>
                  <a:pt x="4269" y="7918"/>
                  <a:pt x="4333" y="7755"/>
                  <a:pt x="4415" y="7838"/>
                </a:cubicBezTo>
                <a:cubicBezTo>
                  <a:pt x="4543" y="7967"/>
                  <a:pt x="4211" y="8072"/>
                  <a:pt x="4167" y="8086"/>
                </a:cubicBezTo>
                <a:cubicBezTo>
                  <a:pt x="4094" y="8050"/>
                  <a:pt x="4088" y="8018"/>
                  <a:pt x="4167" y="7938"/>
                </a:cubicBezTo>
              </a:path>
              <a:path w="844" h="546">
                <a:moveTo>
                  <a:pt x="4688" y="7541"/>
                </a:moveTo>
                <a:cubicBezTo>
                  <a:pt x="4756" y="7541"/>
                  <a:pt x="4853" y="7585"/>
                  <a:pt x="4862" y="7665"/>
                </a:cubicBezTo>
                <a:cubicBezTo>
                  <a:pt x="4882" y="7842"/>
                  <a:pt x="4720" y="7893"/>
                  <a:pt x="4589" y="7913"/>
                </a:cubicBezTo>
                <a:cubicBezTo>
                  <a:pt x="4623" y="7808"/>
                  <a:pt x="4713" y="7732"/>
                  <a:pt x="4837" y="7764"/>
                </a:cubicBezTo>
                <a:cubicBezTo>
                  <a:pt x="4920" y="7785"/>
                  <a:pt x="4923" y="7856"/>
                  <a:pt x="4961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16080" y="2732040"/>
            <a:ext cx="125640" cy="98640"/>
          </a:xfrm>
          <a:custGeom>
            <a:avLst/>
            <a:gdLst/>
            <a:ahLst/>
            <a:rect l="l" t="t" r="r" b="b"/>
            <a:pathLst>
              <a:path w="348" h="274">
                <a:moveTo>
                  <a:pt x="6028" y="7590"/>
                </a:moveTo>
                <a:cubicBezTo>
                  <a:pt x="6036" y="7682"/>
                  <a:pt x="6052" y="7770"/>
                  <a:pt x="6052" y="7863"/>
                </a:cubicBezTo>
              </a:path>
              <a:path w="348" h="274">
                <a:moveTo>
                  <a:pt x="5879" y="7739"/>
                </a:moveTo>
                <a:cubicBezTo>
                  <a:pt x="5994" y="7712"/>
                  <a:pt x="6110" y="7688"/>
                  <a:pt x="6226" y="76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90840" y="2598840"/>
            <a:ext cx="911160" cy="276120"/>
          </a:xfrm>
          <a:custGeom>
            <a:avLst/>
            <a:gdLst/>
            <a:ahLst/>
            <a:rect l="l" t="t" r="r" b="b"/>
            <a:pathLst>
              <a:path w="2531" h="770">
                <a:moveTo>
                  <a:pt x="6995" y="7565"/>
                </a:moveTo>
                <a:cubicBezTo>
                  <a:pt x="7044" y="7556"/>
                  <a:pt x="7164" y="7491"/>
                  <a:pt x="7193" y="7565"/>
                </a:cubicBezTo>
                <a:cubicBezTo>
                  <a:pt x="7237" y="7680"/>
                  <a:pt x="7088" y="7723"/>
                  <a:pt x="7020" y="7764"/>
                </a:cubicBezTo>
                <a:cubicBezTo>
                  <a:pt x="7003" y="7772"/>
                  <a:pt x="6987" y="7781"/>
                  <a:pt x="6970" y="7789"/>
                </a:cubicBezTo>
                <a:cubicBezTo>
                  <a:pt x="7100" y="7767"/>
                  <a:pt x="7146" y="7745"/>
                  <a:pt x="7268" y="7789"/>
                </a:cubicBezTo>
                <a:cubicBezTo>
                  <a:pt x="7200" y="7936"/>
                  <a:pt x="7132" y="8025"/>
                  <a:pt x="6945" y="7987"/>
                </a:cubicBezTo>
                <a:cubicBezTo>
                  <a:pt x="6937" y="7979"/>
                  <a:pt x="6929" y="7970"/>
                  <a:pt x="6921" y="7962"/>
                </a:cubicBezTo>
              </a:path>
              <a:path w="2531" h="770">
                <a:moveTo>
                  <a:pt x="7441" y="7491"/>
                </a:moveTo>
                <a:cubicBezTo>
                  <a:pt x="7409" y="7614"/>
                  <a:pt x="7392" y="7710"/>
                  <a:pt x="7392" y="7838"/>
                </a:cubicBezTo>
                <a:cubicBezTo>
                  <a:pt x="7392" y="7954"/>
                  <a:pt x="7556" y="7946"/>
                  <a:pt x="7640" y="7913"/>
                </a:cubicBezTo>
                <a:cubicBezTo>
                  <a:pt x="7719" y="7882"/>
                  <a:pt x="7768" y="7831"/>
                  <a:pt x="7714" y="7764"/>
                </a:cubicBezTo>
                <a:cubicBezTo>
                  <a:pt x="7706" y="7756"/>
                  <a:pt x="7697" y="7747"/>
                  <a:pt x="7689" y="7739"/>
                </a:cubicBezTo>
                <a:cubicBezTo>
                  <a:pt x="7584" y="7769"/>
                  <a:pt x="7581" y="7834"/>
                  <a:pt x="7590" y="7938"/>
                </a:cubicBezTo>
              </a:path>
              <a:path w="2531" h="770">
                <a:moveTo>
                  <a:pt x="8062" y="7615"/>
                </a:moveTo>
                <a:cubicBezTo>
                  <a:pt x="8141" y="7615"/>
                  <a:pt x="8208" y="7598"/>
                  <a:pt x="8285" y="7590"/>
                </a:cubicBezTo>
                <a:cubicBezTo>
                  <a:pt x="8343" y="7590"/>
                  <a:pt x="8351" y="7590"/>
                  <a:pt x="8384" y="7590"/>
                </a:cubicBezTo>
              </a:path>
              <a:path w="2531" h="770">
                <a:moveTo>
                  <a:pt x="8111" y="7764"/>
                </a:moveTo>
                <a:cubicBezTo>
                  <a:pt x="8217" y="7764"/>
                  <a:pt x="8307" y="7756"/>
                  <a:pt x="8409" y="7739"/>
                </a:cubicBezTo>
              </a:path>
              <a:path w="2531" h="770">
                <a:moveTo>
                  <a:pt x="8930" y="7268"/>
                </a:moveTo>
                <a:cubicBezTo>
                  <a:pt x="8883" y="7280"/>
                  <a:pt x="8838" y="7325"/>
                  <a:pt x="8806" y="7367"/>
                </a:cubicBezTo>
                <a:cubicBezTo>
                  <a:pt x="8727" y="7469"/>
                  <a:pt x="8692" y="7565"/>
                  <a:pt x="8682" y="7689"/>
                </a:cubicBezTo>
                <a:cubicBezTo>
                  <a:pt x="8753" y="7696"/>
                  <a:pt x="8892" y="7745"/>
                  <a:pt x="8954" y="7689"/>
                </a:cubicBezTo>
                <a:cubicBezTo>
                  <a:pt x="8997" y="7649"/>
                  <a:pt x="9016" y="7591"/>
                  <a:pt x="9029" y="7541"/>
                </a:cubicBezTo>
                <a:cubicBezTo>
                  <a:pt x="8988" y="7533"/>
                  <a:pt x="8917" y="7486"/>
                  <a:pt x="8880" y="7541"/>
                </a:cubicBezTo>
                <a:cubicBezTo>
                  <a:pt x="8808" y="7648"/>
                  <a:pt x="8815" y="7687"/>
                  <a:pt x="8930" y="7665"/>
                </a:cubicBezTo>
              </a:path>
              <a:path w="2531" h="770">
                <a:moveTo>
                  <a:pt x="9451" y="7243"/>
                </a:moveTo>
                <a:cubicBezTo>
                  <a:pt x="9342" y="7225"/>
                  <a:pt x="9303" y="7242"/>
                  <a:pt x="9203" y="7293"/>
                </a:cubicBezTo>
                <a:cubicBezTo>
                  <a:pt x="9241" y="7407"/>
                  <a:pt x="9400" y="7411"/>
                  <a:pt x="9426" y="7491"/>
                </a:cubicBezTo>
                <a:cubicBezTo>
                  <a:pt x="9471" y="7630"/>
                  <a:pt x="9351" y="7654"/>
                  <a:pt x="9252" y="7665"/>
                </a:cubicBezTo>
                <a:cubicBezTo>
                  <a:pt x="9270" y="7540"/>
                  <a:pt x="9340" y="7459"/>
                  <a:pt x="9376" y="7342"/>
                </a:cubicBezTo>
                <a:cubicBezTo>
                  <a:pt x="9376" y="7301"/>
                  <a:pt x="9368" y="7285"/>
                  <a:pt x="9401" y="7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11200" y="3152880"/>
            <a:ext cx="1820880" cy="874440"/>
          </a:xfrm>
          <a:custGeom>
            <a:avLst/>
            <a:gdLst/>
            <a:ahLst/>
            <a:rect l="l" t="t" r="r" b="b"/>
            <a:pathLst>
              <a:path w="5061" h="2432">
                <a:moveTo>
                  <a:pt x="4217" y="9971"/>
                </a:moveTo>
                <a:cubicBezTo>
                  <a:pt x="4217" y="9913"/>
                  <a:pt x="3997" y="10311"/>
                  <a:pt x="3994" y="10319"/>
                </a:cubicBezTo>
                <a:cubicBezTo>
                  <a:pt x="3930" y="10461"/>
                  <a:pt x="3902" y="10582"/>
                  <a:pt x="3969" y="10716"/>
                </a:cubicBezTo>
              </a:path>
              <a:path w="5061" h="2432">
                <a:moveTo>
                  <a:pt x="4266" y="10170"/>
                </a:moveTo>
                <a:cubicBezTo>
                  <a:pt x="4247" y="10247"/>
                  <a:pt x="4147" y="10432"/>
                  <a:pt x="4167" y="10517"/>
                </a:cubicBezTo>
                <a:cubicBezTo>
                  <a:pt x="4184" y="10534"/>
                  <a:pt x="4200" y="10550"/>
                  <a:pt x="4217" y="10567"/>
                </a:cubicBezTo>
                <a:cubicBezTo>
                  <a:pt x="4389" y="10592"/>
                  <a:pt x="4491" y="10554"/>
                  <a:pt x="4589" y="10393"/>
                </a:cubicBezTo>
                <a:cubicBezTo>
                  <a:pt x="4589" y="10358"/>
                  <a:pt x="4580" y="10345"/>
                  <a:pt x="4539" y="10344"/>
                </a:cubicBezTo>
                <a:cubicBezTo>
                  <a:pt x="4512" y="10350"/>
                  <a:pt x="4294" y="10476"/>
                  <a:pt x="4390" y="10517"/>
                </a:cubicBezTo>
                <a:cubicBezTo>
                  <a:pt x="4407" y="10509"/>
                  <a:pt x="4423" y="10500"/>
                  <a:pt x="4440" y="10492"/>
                </a:cubicBezTo>
              </a:path>
              <a:path w="5061" h="2432">
                <a:moveTo>
                  <a:pt x="4812" y="10220"/>
                </a:moveTo>
                <a:cubicBezTo>
                  <a:pt x="4853" y="10308"/>
                  <a:pt x="4928" y="10386"/>
                  <a:pt x="4961" y="10468"/>
                </a:cubicBezTo>
              </a:path>
              <a:path w="5061" h="2432">
                <a:moveTo>
                  <a:pt x="5011" y="10294"/>
                </a:moveTo>
                <a:cubicBezTo>
                  <a:pt x="4957" y="10355"/>
                  <a:pt x="4782" y="10512"/>
                  <a:pt x="4837" y="10567"/>
                </a:cubicBezTo>
              </a:path>
              <a:path w="5061" h="2432">
                <a:moveTo>
                  <a:pt x="5283" y="10145"/>
                </a:moveTo>
                <a:cubicBezTo>
                  <a:pt x="5271" y="10247"/>
                  <a:pt x="5259" y="10340"/>
                  <a:pt x="5259" y="10443"/>
                </a:cubicBezTo>
                <a:cubicBezTo>
                  <a:pt x="5259" y="10435"/>
                  <a:pt x="5259" y="10426"/>
                  <a:pt x="5259" y="10418"/>
                </a:cubicBezTo>
              </a:path>
              <a:path w="5061" h="2432">
                <a:moveTo>
                  <a:pt x="5457" y="10145"/>
                </a:moveTo>
                <a:cubicBezTo>
                  <a:pt x="5591" y="10160"/>
                  <a:pt x="5756" y="10193"/>
                  <a:pt x="5606" y="10368"/>
                </a:cubicBezTo>
                <a:cubicBezTo>
                  <a:pt x="5521" y="10432"/>
                  <a:pt x="5501" y="10444"/>
                  <a:pt x="5457" y="10492"/>
                </a:cubicBezTo>
                <a:cubicBezTo>
                  <a:pt x="5582" y="10492"/>
                  <a:pt x="5666" y="10412"/>
                  <a:pt x="5779" y="10368"/>
                </a:cubicBezTo>
                <a:cubicBezTo>
                  <a:pt x="5787" y="10368"/>
                  <a:pt x="5796" y="10368"/>
                  <a:pt x="5804" y="10368"/>
                </a:cubicBezTo>
              </a:path>
              <a:path w="5061" h="2432">
                <a:moveTo>
                  <a:pt x="5705" y="9798"/>
                </a:moveTo>
                <a:cubicBezTo>
                  <a:pt x="5865" y="9904"/>
                  <a:pt x="6128" y="10080"/>
                  <a:pt x="6052" y="10319"/>
                </a:cubicBezTo>
                <a:cubicBezTo>
                  <a:pt x="6023" y="10409"/>
                  <a:pt x="5845" y="10514"/>
                  <a:pt x="5829" y="10517"/>
                </a:cubicBezTo>
              </a:path>
              <a:path w="5061" h="2432">
                <a:moveTo>
                  <a:pt x="4539" y="10815"/>
                </a:moveTo>
                <a:cubicBezTo>
                  <a:pt x="4563" y="10887"/>
                  <a:pt x="4701" y="10822"/>
                  <a:pt x="4762" y="10815"/>
                </a:cubicBezTo>
                <a:cubicBezTo>
                  <a:pt x="4804" y="10815"/>
                  <a:pt x="4812" y="10815"/>
                  <a:pt x="4837" y="10815"/>
                </a:cubicBezTo>
                <a:cubicBezTo>
                  <a:pt x="4827" y="10923"/>
                  <a:pt x="4801" y="11029"/>
                  <a:pt x="4787" y="11137"/>
                </a:cubicBezTo>
              </a:path>
              <a:path w="5061" h="2432">
                <a:moveTo>
                  <a:pt x="5060" y="10840"/>
                </a:moveTo>
                <a:cubicBezTo>
                  <a:pt x="5107" y="10803"/>
                  <a:pt x="5125" y="10797"/>
                  <a:pt x="5184" y="10790"/>
                </a:cubicBezTo>
                <a:cubicBezTo>
                  <a:pt x="5171" y="10954"/>
                  <a:pt x="5121" y="11039"/>
                  <a:pt x="5011" y="11162"/>
                </a:cubicBezTo>
                <a:cubicBezTo>
                  <a:pt x="5003" y="11170"/>
                  <a:pt x="4994" y="11179"/>
                  <a:pt x="4986" y="11187"/>
                </a:cubicBezTo>
                <a:cubicBezTo>
                  <a:pt x="5054" y="11187"/>
                  <a:pt x="5116" y="11167"/>
                  <a:pt x="5184" y="11162"/>
                </a:cubicBezTo>
                <a:cubicBezTo>
                  <a:pt x="5209" y="11162"/>
                  <a:pt x="5217" y="11162"/>
                  <a:pt x="5234" y="11162"/>
                </a:cubicBezTo>
              </a:path>
              <a:path w="5061" h="2432">
                <a:moveTo>
                  <a:pt x="6424" y="9599"/>
                </a:moveTo>
                <a:cubicBezTo>
                  <a:pt x="6532" y="9642"/>
                  <a:pt x="6583" y="9700"/>
                  <a:pt x="6697" y="9723"/>
                </a:cubicBezTo>
                <a:cubicBezTo>
                  <a:pt x="6870" y="9759"/>
                  <a:pt x="7057" y="9733"/>
                  <a:pt x="7193" y="9624"/>
                </a:cubicBezTo>
                <a:cubicBezTo>
                  <a:pt x="7306" y="9533"/>
                  <a:pt x="7374" y="9344"/>
                  <a:pt x="7392" y="9203"/>
                </a:cubicBezTo>
                <a:cubicBezTo>
                  <a:pt x="7405" y="9099"/>
                  <a:pt x="7373" y="8998"/>
                  <a:pt x="7293" y="8930"/>
                </a:cubicBezTo>
                <a:cubicBezTo>
                  <a:pt x="7216" y="8864"/>
                  <a:pt x="7056" y="8753"/>
                  <a:pt x="6945" y="8756"/>
                </a:cubicBezTo>
                <a:cubicBezTo>
                  <a:pt x="6774" y="8761"/>
                  <a:pt x="6643" y="8843"/>
                  <a:pt x="6524" y="8954"/>
                </a:cubicBezTo>
                <a:cubicBezTo>
                  <a:pt x="6411" y="9059"/>
                  <a:pt x="6362" y="9293"/>
                  <a:pt x="6474" y="9426"/>
                </a:cubicBezTo>
                <a:cubicBezTo>
                  <a:pt x="6532" y="9495"/>
                  <a:pt x="6668" y="9513"/>
                  <a:pt x="6747" y="9525"/>
                </a:cubicBezTo>
              </a:path>
              <a:path w="5061" h="2432">
                <a:moveTo>
                  <a:pt x="6350" y="10220"/>
                </a:moveTo>
                <a:cubicBezTo>
                  <a:pt x="6396" y="10205"/>
                  <a:pt x="6376" y="10120"/>
                  <a:pt x="6424" y="10120"/>
                </a:cubicBezTo>
                <a:cubicBezTo>
                  <a:pt x="6461" y="10120"/>
                  <a:pt x="6449" y="10328"/>
                  <a:pt x="6449" y="10368"/>
                </a:cubicBezTo>
              </a:path>
              <a:path w="5061" h="2432">
                <a:moveTo>
                  <a:pt x="6276" y="10319"/>
                </a:moveTo>
                <a:cubicBezTo>
                  <a:pt x="6390" y="10300"/>
                  <a:pt x="6509" y="10276"/>
                  <a:pt x="6623" y="10269"/>
                </a:cubicBezTo>
                <a:cubicBezTo>
                  <a:pt x="6639" y="10269"/>
                  <a:pt x="6656" y="10269"/>
                  <a:pt x="6672" y="10269"/>
                </a:cubicBezTo>
              </a:path>
              <a:path w="5061" h="2432">
                <a:moveTo>
                  <a:pt x="7045" y="9823"/>
                </a:moveTo>
                <a:cubicBezTo>
                  <a:pt x="6966" y="10016"/>
                  <a:pt x="6833" y="10212"/>
                  <a:pt x="6945" y="10418"/>
                </a:cubicBezTo>
                <a:cubicBezTo>
                  <a:pt x="7011" y="10539"/>
                  <a:pt x="7024" y="10453"/>
                  <a:pt x="7045" y="10517"/>
                </a:cubicBezTo>
              </a:path>
              <a:path w="5061" h="2432">
                <a:moveTo>
                  <a:pt x="7293" y="10145"/>
                </a:moveTo>
                <a:cubicBezTo>
                  <a:pt x="7293" y="10073"/>
                  <a:pt x="7218" y="10349"/>
                  <a:pt x="7218" y="10368"/>
                </a:cubicBezTo>
                <a:cubicBezTo>
                  <a:pt x="7226" y="10401"/>
                  <a:pt x="7235" y="10435"/>
                  <a:pt x="7243" y="10468"/>
                </a:cubicBezTo>
                <a:cubicBezTo>
                  <a:pt x="7415" y="10482"/>
                  <a:pt x="7519" y="10372"/>
                  <a:pt x="7615" y="10220"/>
                </a:cubicBezTo>
                <a:cubicBezTo>
                  <a:pt x="7615" y="10212"/>
                  <a:pt x="7615" y="10203"/>
                  <a:pt x="7615" y="10195"/>
                </a:cubicBezTo>
                <a:cubicBezTo>
                  <a:pt x="7502" y="10167"/>
                  <a:pt x="7418" y="10294"/>
                  <a:pt x="7441" y="10418"/>
                </a:cubicBezTo>
                <a:cubicBezTo>
                  <a:pt x="7516" y="10493"/>
                  <a:pt x="7557" y="10485"/>
                  <a:pt x="7615" y="10344"/>
                </a:cubicBezTo>
              </a:path>
              <a:path w="5061" h="2432">
                <a:moveTo>
                  <a:pt x="7789" y="10096"/>
                </a:moveTo>
                <a:cubicBezTo>
                  <a:pt x="7809" y="10114"/>
                  <a:pt x="8034" y="10329"/>
                  <a:pt x="8062" y="10319"/>
                </a:cubicBezTo>
                <a:cubicBezTo>
                  <a:pt x="8070" y="10302"/>
                  <a:pt x="8078" y="10286"/>
                  <a:pt x="8086" y="10269"/>
                </a:cubicBezTo>
              </a:path>
              <a:path w="5061" h="2432">
                <a:moveTo>
                  <a:pt x="8012" y="10096"/>
                </a:moveTo>
                <a:cubicBezTo>
                  <a:pt x="7967" y="10230"/>
                  <a:pt x="7957" y="10266"/>
                  <a:pt x="7913" y="10344"/>
                </a:cubicBezTo>
              </a:path>
              <a:path w="5061" h="2432">
                <a:moveTo>
                  <a:pt x="8434" y="9947"/>
                </a:moveTo>
                <a:cubicBezTo>
                  <a:pt x="8434" y="10042"/>
                  <a:pt x="8381" y="10185"/>
                  <a:pt x="8409" y="10269"/>
                </a:cubicBezTo>
                <a:cubicBezTo>
                  <a:pt x="8417" y="10269"/>
                  <a:pt x="8426" y="10269"/>
                  <a:pt x="8434" y="10269"/>
                </a:cubicBezTo>
              </a:path>
              <a:path w="5061" h="2432">
                <a:moveTo>
                  <a:pt x="8706" y="9996"/>
                </a:moveTo>
                <a:cubicBezTo>
                  <a:pt x="8704" y="10039"/>
                  <a:pt x="8638" y="10288"/>
                  <a:pt x="8706" y="10170"/>
                </a:cubicBezTo>
              </a:path>
              <a:path w="5061" h="2432">
                <a:moveTo>
                  <a:pt x="8880" y="9649"/>
                </a:moveTo>
                <a:cubicBezTo>
                  <a:pt x="8987" y="9979"/>
                  <a:pt x="9050" y="10129"/>
                  <a:pt x="8781" y="103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59000" y="3867120"/>
            <a:ext cx="142920" cy="125280"/>
          </a:xfrm>
          <a:custGeom>
            <a:avLst/>
            <a:gdLst/>
            <a:ahLst/>
            <a:rect l="l" t="t" r="r" b="b"/>
            <a:pathLst>
              <a:path w="397" h="349">
                <a:moveTo>
                  <a:pt x="6499" y="10740"/>
                </a:moveTo>
                <a:cubicBezTo>
                  <a:pt x="6499" y="10856"/>
                  <a:pt x="6499" y="10972"/>
                  <a:pt x="6499" y="11088"/>
                </a:cubicBezTo>
              </a:path>
              <a:path w="397" h="349">
                <a:moveTo>
                  <a:pt x="6276" y="10889"/>
                </a:moveTo>
                <a:cubicBezTo>
                  <a:pt x="6408" y="10889"/>
                  <a:pt x="6540" y="10889"/>
                  <a:pt x="6672" y="108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76680" y="3786120"/>
            <a:ext cx="277560" cy="187560"/>
          </a:xfrm>
          <a:custGeom>
            <a:avLst/>
            <a:gdLst/>
            <a:ahLst/>
            <a:rect l="l" t="t" r="r" b="b"/>
            <a:pathLst>
              <a:path w="770" h="522">
                <a:moveTo>
                  <a:pt x="7813" y="10567"/>
                </a:moveTo>
                <a:cubicBezTo>
                  <a:pt x="7759" y="10692"/>
                  <a:pt x="7724" y="10847"/>
                  <a:pt x="7714" y="10988"/>
                </a:cubicBezTo>
                <a:cubicBezTo>
                  <a:pt x="7714" y="11030"/>
                  <a:pt x="7706" y="11046"/>
                  <a:pt x="7739" y="11038"/>
                </a:cubicBezTo>
                <a:cubicBezTo>
                  <a:pt x="7861" y="10992"/>
                  <a:pt x="7980" y="10947"/>
                  <a:pt x="8037" y="10815"/>
                </a:cubicBezTo>
                <a:cubicBezTo>
                  <a:pt x="8078" y="10719"/>
                  <a:pt x="7881" y="10860"/>
                  <a:pt x="7813" y="10939"/>
                </a:cubicBezTo>
                <a:cubicBezTo>
                  <a:pt x="7852" y="11054"/>
                  <a:pt x="7885" y="10954"/>
                  <a:pt x="7987" y="10864"/>
                </a:cubicBezTo>
              </a:path>
              <a:path w="770" h="522">
                <a:moveTo>
                  <a:pt x="8210" y="10517"/>
                </a:moveTo>
                <a:cubicBezTo>
                  <a:pt x="8194" y="10666"/>
                  <a:pt x="8100" y="10840"/>
                  <a:pt x="8161" y="10988"/>
                </a:cubicBezTo>
                <a:cubicBezTo>
                  <a:pt x="8242" y="11182"/>
                  <a:pt x="8471" y="10811"/>
                  <a:pt x="8483" y="10790"/>
                </a:cubicBezTo>
                <a:cubicBezTo>
                  <a:pt x="8382" y="10729"/>
                  <a:pt x="8330" y="10848"/>
                  <a:pt x="8285" y="10939"/>
                </a:cubicBezTo>
                <a:cubicBezTo>
                  <a:pt x="8285" y="10947"/>
                  <a:pt x="8285" y="10956"/>
                  <a:pt x="8285" y="109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95800" y="3821040"/>
            <a:ext cx="98280" cy="63720"/>
          </a:xfrm>
          <a:custGeom>
            <a:avLst/>
            <a:gdLst/>
            <a:ahLst/>
            <a:rect l="l" t="t" r="r" b="b"/>
            <a:pathLst>
              <a:path w="274" h="175">
                <a:moveTo>
                  <a:pt x="9153" y="10666"/>
                </a:moveTo>
                <a:cubicBezTo>
                  <a:pt x="9165" y="10631"/>
                  <a:pt x="9254" y="10621"/>
                  <a:pt x="9302" y="10616"/>
                </a:cubicBezTo>
                <a:cubicBezTo>
                  <a:pt x="9327" y="10616"/>
                  <a:pt x="9351" y="10616"/>
                  <a:pt x="9376" y="10616"/>
                </a:cubicBezTo>
              </a:path>
              <a:path w="274" h="175">
                <a:moveTo>
                  <a:pt x="9178" y="10790"/>
                </a:moveTo>
                <a:cubicBezTo>
                  <a:pt x="9261" y="10775"/>
                  <a:pt x="9357" y="10766"/>
                  <a:pt x="9426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25920" y="3652920"/>
            <a:ext cx="357120" cy="196920"/>
          </a:xfrm>
          <a:custGeom>
            <a:avLst/>
            <a:gdLst/>
            <a:ahLst/>
            <a:rect l="l" t="t" r="r" b="b"/>
            <a:pathLst>
              <a:path w="993" h="547">
                <a:moveTo>
                  <a:pt x="10071" y="10244"/>
                </a:moveTo>
                <a:cubicBezTo>
                  <a:pt x="10084" y="10282"/>
                  <a:pt x="10096" y="10265"/>
                  <a:pt x="10096" y="10319"/>
                </a:cubicBezTo>
                <a:cubicBezTo>
                  <a:pt x="10096" y="10367"/>
                  <a:pt x="10071" y="10705"/>
                  <a:pt x="10071" y="10666"/>
                </a:cubicBezTo>
              </a:path>
              <a:path w="993" h="547">
                <a:moveTo>
                  <a:pt x="10319" y="10244"/>
                </a:moveTo>
                <a:cubicBezTo>
                  <a:pt x="10445" y="10235"/>
                  <a:pt x="10538" y="10168"/>
                  <a:pt x="10592" y="10294"/>
                </a:cubicBezTo>
                <a:cubicBezTo>
                  <a:pt x="10622" y="10363"/>
                  <a:pt x="10489" y="10409"/>
                  <a:pt x="10443" y="10418"/>
                </a:cubicBezTo>
                <a:cubicBezTo>
                  <a:pt x="10463" y="10358"/>
                  <a:pt x="10625" y="10310"/>
                  <a:pt x="10666" y="10418"/>
                </a:cubicBezTo>
                <a:cubicBezTo>
                  <a:pt x="10718" y="10555"/>
                  <a:pt x="10401" y="10633"/>
                  <a:pt x="10319" y="10592"/>
                </a:cubicBezTo>
                <a:cubicBezTo>
                  <a:pt x="10287" y="10527"/>
                  <a:pt x="10290" y="10499"/>
                  <a:pt x="10368" y="10468"/>
                </a:cubicBezTo>
              </a:path>
              <a:path w="993" h="547">
                <a:moveTo>
                  <a:pt x="11063" y="10145"/>
                </a:moveTo>
                <a:cubicBezTo>
                  <a:pt x="10948" y="10145"/>
                  <a:pt x="10899" y="10194"/>
                  <a:pt x="10815" y="10269"/>
                </a:cubicBezTo>
                <a:cubicBezTo>
                  <a:pt x="10807" y="10277"/>
                  <a:pt x="10798" y="10286"/>
                  <a:pt x="10790" y="10294"/>
                </a:cubicBezTo>
                <a:cubicBezTo>
                  <a:pt x="10833" y="10353"/>
                  <a:pt x="11036" y="10360"/>
                  <a:pt x="11063" y="10443"/>
                </a:cubicBezTo>
                <a:cubicBezTo>
                  <a:pt x="11103" y="10566"/>
                  <a:pt x="10978" y="10580"/>
                  <a:pt x="10914" y="10592"/>
                </a:cubicBezTo>
                <a:cubicBezTo>
                  <a:pt x="10854" y="10473"/>
                  <a:pt x="10902" y="10374"/>
                  <a:pt x="11013" y="10269"/>
                </a:cubicBezTo>
                <a:cubicBezTo>
                  <a:pt x="11030" y="10261"/>
                  <a:pt x="11046" y="10252"/>
                  <a:pt x="11063" y="102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28840" y="4321080"/>
            <a:ext cx="1812960" cy="777960"/>
          </a:xfrm>
          <a:custGeom>
            <a:avLst/>
            <a:gdLst/>
            <a:ahLst/>
            <a:rect l="l" t="t" r="r" b="b"/>
            <a:pathLst>
              <a:path w="5036" h="2159">
                <a:moveTo>
                  <a:pt x="5060" y="12948"/>
                </a:moveTo>
                <a:cubicBezTo>
                  <a:pt x="5074" y="12905"/>
                  <a:pt x="5129" y="12923"/>
                  <a:pt x="5184" y="12923"/>
                </a:cubicBezTo>
                <a:cubicBezTo>
                  <a:pt x="5287" y="12923"/>
                  <a:pt x="5381" y="12907"/>
                  <a:pt x="5482" y="12898"/>
                </a:cubicBezTo>
                <a:cubicBezTo>
                  <a:pt x="5356" y="12898"/>
                  <a:pt x="5237" y="12919"/>
                  <a:pt x="5110" y="12923"/>
                </a:cubicBezTo>
                <a:cubicBezTo>
                  <a:pt x="5093" y="12923"/>
                  <a:pt x="5077" y="12923"/>
                  <a:pt x="5060" y="12923"/>
                </a:cubicBezTo>
                <a:cubicBezTo>
                  <a:pt x="5154" y="12901"/>
                  <a:pt x="5235" y="12898"/>
                  <a:pt x="5333" y="12898"/>
                </a:cubicBezTo>
                <a:cubicBezTo>
                  <a:pt x="5341" y="12898"/>
                  <a:pt x="5350" y="12898"/>
                  <a:pt x="5358" y="12898"/>
                </a:cubicBezTo>
              </a:path>
              <a:path w="5036" h="2159">
                <a:moveTo>
                  <a:pt x="4118" y="13246"/>
                </a:moveTo>
                <a:cubicBezTo>
                  <a:pt x="4060" y="13450"/>
                  <a:pt x="3972" y="13616"/>
                  <a:pt x="3969" y="13841"/>
                </a:cubicBezTo>
                <a:cubicBezTo>
                  <a:pt x="3967" y="14022"/>
                  <a:pt x="4040" y="14034"/>
                  <a:pt x="4093" y="14163"/>
                </a:cubicBezTo>
              </a:path>
              <a:path w="5036" h="2159">
                <a:moveTo>
                  <a:pt x="4316" y="13469"/>
                </a:moveTo>
                <a:cubicBezTo>
                  <a:pt x="4387" y="13445"/>
                  <a:pt x="4524" y="13339"/>
                  <a:pt x="4564" y="13469"/>
                </a:cubicBezTo>
                <a:cubicBezTo>
                  <a:pt x="4564" y="13582"/>
                  <a:pt x="4554" y="13624"/>
                  <a:pt x="4465" y="13667"/>
                </a:cubicBezTo>
                <a:cubicBezTo>
                  <a:pt x="4457" y="13675"/>
                  <a:pt x="4448" y="13684"/>
                  <a:pt x="4440" y="13692"/>
                </a:cubicBezTo>
                <a:cubicBezTo>
                  <a:pt x="4578" y="13672"/>
                  <a:pt x="4774" y="13718"/>
                  <a:pt x="4564" y="13891"/>
                </a:cubicBezTo>
                <a:cubicBezTo>
                  <a:pt x="4459" y="13977"/>
                  <a:pt x="4357" y="13957"/>
                  <a:pt x="4266" y="13915"/>
                </a:cubicBezTo>
              </a:path>
              <a:path w="5036" h="2159">
                <a:moveTo>
                  <a:pt x="4862" y="13419"/>
                </a:moveTo>
                <a:cubicBezTo>
                  <a:pt x="4912" y="13507"/>
                  <a:pt x="4994" y="13625"/>
                  <a:pt x="5060" y="13717"/>
                </a:cubicBezTo>
                <a:cubicBezTo>
                  <a:pt x="5083" y="13740"/>
                  <a:pt x="5091" y="13751"/>
                  <a:pt x="5085" y="13717"/>
                </a:cubicBezTo>
              </a:path>
              <a:path w="5036" h="2159">
                <a:moveTo>
                  <a:pt x="5060" y="13345"/>
                </a:moveTo>
                <a:cubicBezTo>
                  <a:pt x="5021" y="13472"/>
                  <a:pt x="4981" y="13593"/>
                  <a:pt x="4936" y="13717"/>
                </a:cubicBezTo>
              </a:path>
              <a:path w="5036" h="2159">
                <a:moveTo>
                  <a:pt x="5358" y="13395"/>
                </a:moveTo>
                <a:cubicBezTo>
                  <a:pt x="5371" y="13528"/>
                  <a:pt x="5227" y="13763"/>
                  <a:pt x="5358" y="13791"/>
                </a:cubicBezTo>
                <a:cubicBezTo>
                  <a:pt x="5374" y="13783"/>
                  <a:pt x="5391" y="13775"/>
                  <a:pt x="5407" y="13767"/>
                </a:cubicBezTo>
              </a:path>
              <a:path w="5036" h="2159">
                <a:moveTo>
                  <a:pt x="5606" y="13370"/>
                </a:moveTo>
                <a:cubicBezTo>
                  <a:pt x="5691" y="13391"/>
                  <a:pt x="5781" y="13395"/>
                  <a:pt x="5879" y="13395"/>
                </a:cubicBezTo>
                <a:cubicBezTo>
                  <a:pt x="5879" y="13522"/>
                  <a:pt x="5858" y="13641"/>
                  <a:pt x="5854" y="13767"/>
                </a:cubicBezTo>
                <a:cubicBezTo>
                  <a:pt x="5854" y="13792"/>
                  <a:pt x="5854" y="13816"/>
                  <a:pt x="5854" y="13841"/>
                </a:cubicBezTo>
              </a:path>
              <a:path w="5036" h="2159">
                <a:moveTo>
                  <a:pt x="5978" y="13122"/>
                </a:moveTo>
                <a:cubicBezTo>
                  <a:pt x="6146" y="13383"/>
                  <a:pt x="6285" y="13622"/>
                  <a:pt x="6077" y="13915"/>
                </a:cubicBezTo>
                <a:cubicBezTo>
                  <a:pt x="6002" y="13972"/>
                  <a:pt x="5990" y="13976"/>
                  <a:pt x="5953" y="14015"/>
                </a:cubicBezTo>
              </a:path>
              <a:path w="5036" h="2159">
                <a:moveTo>
                  <a:pt x="7863" y="12700"/>
                </a:moveTo>
                <a:cubicBezTo>
                  <a:pt x="8013" y="12820"/>
                  <a:pt x="8140" y="12840"/>
                  <a:pt x="8334" y="12799"/>
                </a:cubicBezTo>
                <a:cubicBezTo>
                  <a:pt x="8534" y="12757"/>
                  <a:pt x="8634" y="12665"/>
                  <a:pt x="8607" y="12452"/>
                </a:cubicBezTo>
                <a:cubicBezTo>
                  <a:pt x="8572" y="12181"/>
                  <a:pt x="8421" y="12041"/>
                  <a:pt x="8161" y="12005"/>
                </a:cubicBezTo>
                <a:cubicBezTo>
                  <a:pt x="7949" y="11976"/>
                  <a:pt x="7781" y="12125"/>
                  <a:pt x="7689" y="12303"/>
                </a:cubicBezTo>
                <a:cubicBezTo>
                  <a:pt x="7548" y="12576"/>
                  <a:pt x="7755" y="12720"/>
                  <a:pt x="8012" y="12725"/>
                </a:cubicBezTo>
                <a:cubicBezTo>
                  <a:pt x="8131" y="12701"/>
                  <a:pt x="8168" y="12695"/>
                  <a:pt x="8235" y="12650"/>
                </a:cubicBezTo>
              </a:path>
              <a:path w="5036" h="2159">
                <a:moveTo>
                  <a:pt x="6548" y="13469"/>
                </a:moveTo>
                <a:cubicBezTo>
                  <a:pt x="6548" y="13593"/>
                  <a:pt x="6548" y="13717"/>
                  <a:pt x="6548" y="13841"/>
                </a:cubicBezTo>
              </a:path>
              <a:path w="5036" h="2159">
                <a:moveTo>
                  <a:pt x="6325" y="13692"/>
                </a:moveTo>
                <a:cubicBezTo>
                  <a:pt x="6438" y="13692"/>
                  <a:pt x="6538" y="13676"/>
                  <a:pt x="6648" y="13667"/>
                </a:cubicBezTo>
                <a:cubicBezTo>
                  <a:pt x="6656" y="13667"/>
                  <a:pt x="6664" y="13667"/>
                  <a:pt x="6672" y="13667"/>
                </a:cubicBezTo>
              </a:path>
              <a:path w="5036" h="2159">
                <a:moveTo>
                  <a:pt x="7144" y="13171"/>
                </a:moveTo>
                <a:cubicBezTo>
                  <a:pt x="7050" y="13369"/>
                  <a:pt x="6945" y="13565"/>
                  <a:pt x="7020" y="13791"/>
                </a:cubicBezTo>
                <a:cubicBezTo>
                  <a:pt x="7055" y="13897"/>
                  <a:pt x="7102" y="13934"/>
                  <a:pt x="7193" y="13965"/>
                </a:cubicBezTo>
              </a:path>
              <a:path w="5036" h="2159">
                <a:moveTo>
                  <a:pt x="7367" y="13295"/>
                </a:moveTo>
                <a:cubicBezTo>
                  <a:pt x="7439" y="13281"/>
                  <a:pt x="7543" y="13221"/>
                  <a:pt x="7590" y="13320"/>
                </a:cubicBezTo>
                <a:cubicBezTo>
                  <a:pt x="7638" y="13422"/>
                  <a:pt x="7472" y="13499"/>
                  <a:pt x="7417" y="13543"/>
                </a:cubicBezTo>
                <a:cubicBezTo>
                  <a:pt x="7409" y="13543"/>
                  <a:pt x="7400" y="13543"/>
                  <a:pt x="7392" y="13543"/>
                </a:cubicBezTo>
                <a:cubicBezTo>
                  <a:pt x="7476" y="13543"/>
                  <a:pt x="7591" y="13501"/>
                  <a:pt x="7615" y="13618"/>
                </a:cubicBezTo>
                <a:cubicBezTo>
                  <a:pt x="7640" y="13737"/>
                  <a:pt x="7407" y="13768"/>
                  <a:pt x="7342" y="13742"/>
                </a:cubicBezTo>
                <a:cubicBezTo>
                  <a:pt x="7342" y="13734"/>
                  <a:pt x="7342" y="13725"/>
                  <a:pt x="7342" y="13717"/>
                </a:cubicBezTo>
              </a:path>
              <a:path w="5036" h="2159">
                <a:moveTo>
                  <a:pt x="7913" y="13444"/>
                </a:moveTo>
                <a:cubicBezTo>
                  <a:pt x="7994" y="13498"/>
                  <a:pt x="8109" y="13692"/>
                  <a:pt x="8186" y="13717"/>
                </a:cubicBezTo>
                <a:cubicBezTo>
                  <a:pt x="8186" y="13709"/>
                  <a:pt x="8186" y="13700"/>
                  <a:pt x="8186" y="13692"/>
                </a:cubicBezTo>
              </a:path>
              <a:path w="5036" h="2159">
                <a:moveTo>
                  <a:pt x="8136" y="13395"/>
                </a:moveTo>
                <a:cubicBezTo>
                  <a:pt x="8069" y="13498"/>
                  <a:pt x="7996" y="13600"/>
                  <a:pt x="7962" y="13717"/>
                </a:cubicBezTo>
              </a:path>
              <a:path w="5036" h="2159">
                <a:moveTo>
                  <a:pt x="8582" y="13295"/>
                </a:moveTo>
                <a:cubicBezTo>
                  <a:pt x="8448" y="13265"/>
                  <a:pt x="8385" y="13281"/>
                  <a:pt x="8260" y="13320"/>
                </a:cubicBezTo>
                <a:cubicBezTo>
                  <a:pt x="8328" y="13443"/>
                  <a:pt x="8601" y="13482"/>
                  <a:pt x="8632" y="13643"/>
                </a:cubicBezTo>
                <a:cubicBezTo>
                  <a:pt x="8580" y="13721"/>
                  <a:pt x="8559" y="13746"/>
                  <a:pt x="8483" y="13742"/>
                </a:cubicBezTo>
                <a:cubicBezTo>
                  <a:pt x="8450" y="13576"/>
                  <a:pt x="8632" y="13505"/>
                  <a:pt x="8632" y="13370"/>
                </a:cubicBezTo>
                <a:cubicBezTo>
                  <a:pt x="8591" y="13350"/>
                  <a:pt x="8575" y="13352"/>
                  <a:pt x="8582" y="13320"/>
                </a:cubicBezTo>
              </a:path>
              <a:path w="5036" h="2159">
                <a:moveTo>
                  <a:pt x="8657" y="13047"/>
                </a:moveTo>
                <a:cubicBezTo>
                  <a:pt x="8889" y="13125"/>
                  <a:pt x="9001" y="13315"/>
                  <a:pt x="9004" y="13568"/>
                </a:cubicBezTo>
                <a:cubicBezTo>
                  <a:pt x="9005" y="13630"/>
                  <a:pt x="8922" y="13863"/>
                  <a:pt x="8880" y="138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51040" y="5089680"/>
            <a:ext cx="204840" cy="233280"/>
          </a:xfrm>
          <a:custGeom>
            <a:avLst/>
            <a:gdLst/>
            <a:ahLst/>
            <a:rect l="l" t="t" r="r" b="b"/>
            <a:pathLst>
              <a:path w="571" h="646">
                <a:moveTo>
                  <a:pt x="5085" y="14163"/>
                </a:moveTo>
                <a:cubicBezTo>
                  <a:pt x="5033" y="14138"/>
                  <a:pt x="5029" y="14181"/>
                  <a:pt x="4961" y="14188"/>
                </a:cubicBezTo>
                <a:cubicBezTo>
                  <a:pt x="4915" y="14193"/>
                  <a:pt x="4896" y="14335"/>
                  <a:pt x="4887" y="14387"/>
                </a:cubicBezTo>
                <a:cubicBezTo>
                  <a:pt x="4887" y="14428"/>
                  <a:pt x="4887" y="14436"/>
                  <a:pt x="4887" y="14461"/>
                </a:cubicBezTo>
                <a:cubicBezTo>
                  <a:pt x="4945" y="14461"/>
                  <a:pt x="5094" y="14408"/>
                  <a:pt x="5135" y="14461"/>
                </a:cubicBezTo>
                <a:cubicBezTo>
                  <a:pt x="5247" y="14607"/>
                  <a:pt x="5082" y="14779"/>
                  <a:pt x="4936" y="14784"/>
                </a:cubicBezTo>
                <a:cubicBezTo>
                  <a:pt x="4879" y="14765"/>
                  <a:pt x="4854" y="14774"/>
                  <a:pt x="4862" y="14734"/>
                </a:cubicBezTo>
              </a:path>
              <a:path w="571" h="646">
                <a:moveTo>
                  <a:pt x="5358" y="14213"/>
                </a:moveTo>
                <a:cubicBezTo>
                  <a:pt x="5393" y="14354"/>
                  <a:pt x="5426" y="14462"/>
                  <a:pt x="5432" y="14610"/>
                </a:cubicBezTo>
                <a:cubicBezTo>
                  <a:pt x="5432" y="14618"/>
                  <a:pt x="5432" y="14702"/>
                  <a:pt x="5432" y="146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13000" y="5089680"/>
            <a:ext cx="115920" cy="125280"/>
          </a:xfrm>
          <a:custGeom>
            <a:avLst/>
            <a:gdLst/>
            <a:ahLst/>
            <a:rect l="l" t="t" r="r" b="b"/>
            <a:pathLst>
              <a:path w="324" h="348">
                <a:moveTo>
                  <a:pt x="6524" y="14139"/>
                </a:moveTo>
                <a:cubicBezTo>
                  <a:pt x="6524" y="14250"/>
                  <a:pt x="6541" y="14352"/>
                  <a:pt x="6548" y="14461"/>
                </a:cubicBezTo>
                <a:cubicBezTo>
                  <a:pt x="6548" y="14469"/>
                  <a:pt x="6548" y="14478"/>
                  <a:pt x="6548" y="14486"/>
                </a:cubicBezTo>
              </a:path>
              <a:path w="324" h="348">
                <a:moveTo>
                  <a:pt x="6424" y="14337"/>
                </a:moveTo>
                <a:cubicBezTo>
                  <a:pt x="6536" y="14304"/>
                  <a:pt x="6606" y="14288"/>
                  <a:pt x="6722" y="14288"/>
                </a:cubicBezTo>
                <a:cubicBezTo>
                  <a:pt x="6730" y="14288"/>
                  <a:pt x="6739" y="14288"/>
                  <a:pt x="6747" y="142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05040" y="5037120"/>
            <a:ext cx="304920" cy="222120"/>
          </a:xfrm>
          <a:custGeom>
            <a:avLst/>
            <a:gdLst/>
            <a:ahLst/>
            <a:rect l="l" t="t" r="r" b="b"/>
            <a:pathLst>
              <a:path w="844" h="621">
                <a:moveTo>
                  <a:pt x="7640" y="14163"/>
                </a:moveTo>
                <a:cubicBezTo>
                  <a:pt x="7639" y="14226"/>
                  <a:pt x="7742" y="14156"/>
                  <a:pt x="7863" y="14188"/>
                </a:cubicBezTo>
                <a:cubicBezTo>
                  <a:pt x="7829" y="14462"/>
                  <a:pt x="7782" y="14512"/>
                  <a:pt x="7516" y="14610"/>
                </a:cubicBezTo>
                <a:cubicBezTo>
                  <a:pt x="7543" y="14486"/>
                  <a:pt x="7615" y="14388"/>
                  <a:pt x="7764" y="14461"/>
                </a:cubicBezTo>
                <a:cubicBezTo>
                  <a:pt x="7910" y="14532"/>
                  <a:pt x="7768" y="14614"/>
                  <a:pt x="7888" y="14536"/>
                </a:cubicBezTo>
              </a:path>
              <a:path w="844" h="621">
                <a:moveTo>
                  <a:pt x="8062" y="14114"/>
                </a:moveTo>
                <a:cubicBezTo>
                  <a:pt x="8062" y="14180"/>
                  <a:pt x="8062" y="14246"/>
                  <a:pt x="8062" y="14312"/>
                </a:cubicBezTo>
                <a:cubicBezTo>
                  <a:pt x="8170" y="14359"/>
                  <a:pt x="8260" y="14341"/>
                  <a:pt x="8359" y="14288"/>
                </a:cubicBezTo>
              </a:path>
              <a:path w="844" h="621">
                <a:moveTo>
                  <a:pt x="8285" y="13990"/>
                </a:moveTo>
                <a:cubicBezTo>
                  <a:pt x="8255" y="14170"/>
                  <a:pt x="8242" y="14353"/>
                  <a:pt x="8235" y="14536"/>
                </a:cubicBezTo>
                <a:cubicBezTo>
                  <a:pt x="8235" y="14544"/>
                  <a:pt x="8235" y="14552"/>
                  <a:pt x="8235" y="145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24160" y="5116680"/>
            <a:ext cx="133560" cy="80640"/>
          </a:xfrm>
          <a:custGeom>
            <a:avLst/>
            <a:gdLst/>
            <a:ahLst/>
            <a:rect l="l" t="t" r="r" b="b"/>
            <a:pathLst>
              <a:path w="374" h="224">
                <a:moveTo>
                  <a:pt x="8954" y="14263"/>
                </a:moveTo>
                <a:cubicBezTo>
                  <a:pt x="9075" y="14239"/>
                  <a:pt x="9240" y="14185"/>
                  <a:pt x="9327" y="14238"/>
                </a:cubicBezTo>
              </a:path>
              <a:path w="374" h="224">
                <a:moveTo>
                  <a:pt x="9103" y="14436"/>
                </a:moveTo>
                <a:cubicBezTo>
                  <a:pt x="9219" y="14436"/>
                  <a:pt x="9236" y="14436"/>
                  <a:pt x="9302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16200" y="4973760"/>
            <a:ext cx="384480" cy="223560"/>
          </a:xfrm>
          <a:custGeom>
            <a:avLst/>
            <a:gdLst/>
            <a:ahLst/>
            <a:rect l="l" t="t" r="r" b="b"/>
            <a:pathLst>
              <a:path w="1067" h="621">
                <a:moveTo>
                  <a:pt x="10046" y="13965"/>
                </a:moveTo>
                <a:cubicBezTo>
                  <a:pt x="10085" y="14004"/>
                  <a:pt x="10102" y="14005"/>
                  <a:pt x="10096" y="14039"/>
                </a:cubicBezTo>
                <a:cubicBezTo>
                  <a:pt x="10186" y="13949"/>
                  <a:pt x="10262" y="13908"/>
                  <a:pt x="10393" y="13891"/>
                </a:cubicBezTo>
                <a:cubicBezTo>
                  <a:pt x="10476" y="13891"/>
                  <a:pt x="10492" y="13891"/>
                  <a:pt x="10542" y="13891"/>
                </a:cubicBezTo>
                <a:cubicBezTo>
                  <a:pt x="10487" y="14064"/>
                  <a:pt x="10421" y="14250"/>
                  <a:pt x="10344" y="14412"/>
                </a:cubicBezTo>
                <a:cubicBezTo>
                  <a:pt x="10316" y="14439"/>
                  <a:pt x="10312" y="14447"/>
                  <a:pt x="10368" y="14436"/>
                </a:cubicBezTo>
              </a:path>
              <a:path w="1067" h="621">
                <a:moveTo>
                  <a:pt x="11063" y="13816"/>
                </a:moveTo>
                <a:cubicBezTo>
                  <a:pt x="10900" y="13826"/>
                  <a:pt x="10844" y="13819"/>
                  <a:pt x="10765" y="13965"/>
                </a:cubicBezTo>
                <a:cubicBezTo>
                  <a:pt x="10729" y="14038"/>
                  <a:pt x="10712" y="14043"/>
                  <a:pt x="10716" y="14089"/>
                </a:cubicBezTo>
                <a:cubicBezTo>
                  <a:pt x="10821" y="14071"/>
                  <a:pt x="10956" y="13990"/>
                  <a:pt x="11063" y="14064"/>
                </a:cubicBezTo>
                <a:cubicBezTo>
                  <a:pt x="11277" y="14211"/>
                  <a:pt x="10937" y="14422"/>
                  <a:pt x="10815" y="14436"/>
                </a:cubicBezTo>
                <a:cubicBezTo>
                  <a:pt x="10723" y="14414"/>
                  <a:pt x="10693" y="14413"/>
                  <a:pt x="10691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68760" y="1224000"/>
            <a:ext cx="3697200" cy="88920"/>
          </a:xfrm>
          <a:custGeom>
            <a:avLst/>
            <a:gdLst/>
            <a:ahLst/>
            <a:rect l="l" t="t" r="r" b="b"/>
            <a:pathLst>
              <a:path w="10271" h="249">
                <a:moveTo>
                  <a:pt x="7689" y="3522"/>
                </a:moveTo>
                <a:cubicBezTo>
                  <a:pt x="7806" y="3532"/>
                  <a:pt x="7920" y="3536"/>
                  <a:pt x="8037" y="3547"/>
                </a:cubicBezTo>
                <a:cubicBezTo>
                  <a:pt x="8202" y="3563"/>
                  <a:pt x="8367" y="3559"/>
                  <a:pt x="8533" y="3572"/>
                </a:cubicBezTo>
                <a:cubicBezTo>
                  <a:pt x="8670" y="3583"/>
                  <a:pt x="8815" y="3608"/>
                  <a:pt x="8954" y="3621"/>
                </a:cubicBezTo>
                <a:cubicBezTo>
                  <a:pt x="9152" y="3639"/>
                  <a:pt x="9350" y="3644"/>
                  <a:pt x="9550" y="3646"/>
                </a:cubicBezTo>
                <a:cubicBezTo>
                  <a:pt x="9752" y="3648"/>
                  <a:pt x="9945" y="3628"/>
                  <a:pt x="10145" y="3621"/>
                </a:cubicBezTo>
                <a:cubicBezTo>
                  <a:pt x="10385" y="3613"/>
                  <a:pt x="10626" y="3605"/>
                  <a:pt x="10864" y="3597"/>
                </a:cubicBezTo>
                <a:cubicBezTo>
                  <a:pt x="11658" y="3572"/>
                  <a:pt x="12453" y="3577"/>
                  <a:pt x="13246" y="3547"/>
                </a:cubicBezTo>
                <a:cubicBezTo>
                  <a:pt x="13560" y="3535"/>
                  <a:pt x="13875" y="3509"/>
                  <a:pt x="14188" y="3497"/>
                </a:cubicBezTo>
                <a:cubicBezTo>
                  <a:pt x="14428" y="3488"/>
                  <a:pt x="14668" y="3480"/>
                  <a:pt x="14908" y="3473"/>
                </a:cubicBezTo>
                <a:cubicBezTo>
                  <a:pt x="15206" y="3465"/>
                  <a:pt x="15504" y="3452"/>
                  <a:pt x="15801" y="3448"/>
                </a:cubicBezTo>
                <a:cubicBezTo>
                  <a:pt x="16124" y="3443"/>
                  <a:pt x="16446" y="3428"/>
                  <a:pt x="16768" y="3423"/>
                </a:cubicBezTo>
                <a:cubicBezTo>
                  <a:pt x="17100" y="3418"/>
                  <a:pt x="17430" y="3411"/>
                  <a:pt x="17760" y="3398"/>
                </a:cubicBezTo>
                <a:cubicBezTo>
                  <a:pt x="17826" y="3395"/>
                  <a:pt x="17893" y="3400"/>
                  <a:pt x="17959" y="33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se the distributive property to evaluat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4.) 2(50 + 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5.) 4(60 + 3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6.) 12(10 + 5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1241280" y="6116760"/>
            <a:ext cx="180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3448" y="17041"/>
                </a:moveTo>
                <a:cubicBezTo>
                  <a:pt x="3448" y="17024"/>
                  <a:pt x="3448" y="17008"/>
                  <a:pt x="3448" y="169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97000" y="6518160"/>
            <a:ext cx="936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3324" y="18107"/>
                </a:moveTo>
                <a:cubicBezTo>
                  <a:pt x="3332" y="18107"/>
                  <a:pt x="3341" y="18107"/>
                  <a:pt x="3349" y="181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03200" y="6831000"/>
            <a:ext cx="19080" cy="1440"/>
          </a:xfrm>
          <a:custGeom>
            <a:avLst/>
            <a:gdLst/>
            <a:ahLst/>
            <a:rect l="l" t="t" r="r" b="b"/>
            <a:pathLst>
              <a:path w="51" h="1">
                <a:moveTo>
                  <a:pt x="3621" y="18976"/>
                </a:moveTo>
                <a:cubicBezTo>
                  <a:pt x="3638" y="18976"/>
                  <a:pt x="3654" y="18976"/>
                  <a:pt x="3671" y="189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19120" y="1919160"/>
            <a:ext cx="1859040" cy="723960"/>
          </a:xfrm>
          <a:custGeom>
            <a:avLst/>
            <a:gdLst/>
            <a:ahLst/>
            <a:rect l="l" t="t" r="r" b="b"/>
            <a:pathLst>
              <a:path w="5160" h="2010">
                <a:moveTo>
                  <a:pt x="4118" y="6573"/>
                </a:moveTo>
                <a:cubicBezTo>
                  <a:pt x="4023" y="6752"/>
                  <a:pt x="3867" y="7034"/>
                  <a:pt x="3969" y="7243"/>
                </a:cubicBezTo>
                <a:cubicBezTo>
                  <a:pt x="4062" y="7313"/>
                  <a:pt x="4088" y="7336"/>
                  <a:pt x="4167" y="7342"/>
                </a:cubicBezTo>
              </a:path>
              <a:path w="5160" h="2010">
                <a:moveTo>
                  <a:pt x="4291" y="6772"/>
                </a:moveTo>
                <a:cubicBezTo>
                  <a:pt x="4267" y="6865"/>
                  <a:pt x="4240" y="6769"/>
                  <a:pt x="4316" y="6772"/>
                </a:cubicBezTo>
                <a:cubicBezTo>
                  <a:pt x="4616" y="6783"/>
                  <a:pt x="4464" y="7158"/>
                  <a:pt x="4266" y="7218"/>
                </a:cubicBezTo>
                <a:cubicBezTo>
                  <a:pt x="4134" y="7196"/>
                  <a:pt x="4088" y="7203"/>
                  <a:pt x="4093" y="7094"/>
                </a:cubicBezTo>
                <a:cubicBezTo>
                  <a:pt x="4253" y="7020"/>
                  <a:pt x="4388" y="6987"/>
                  <a:pt x="4539" y="7119"/>
                </a:cubicBezTo>
                <a:cubicBezTo>
                  <a:pt x="4539" y="7162"/>
                  <a:pt x="4556" y="7165"/>
                  <a:pt x="4614" y="7119"/>
                </a:cubicBezTo>
              </a:path>
              <a:path w="5160" h="2010">
                <a:moveTo>
                  <a:pt x="4812" y="6846"/>
                </a:moveTo>
                <a:cubicBezTo>
                  <a:pt x="4879" y="6926"/>
                  <a:pt x="4924" y="7002"/>
                  <a:pt x="5011" y="7045"/>
                </a:cubicBezTo>
              </a:path>
              <a:path w="5160" h="2010">
                <a:moveTo>
                  <a:pt x="5060" y="6722"/>
                </a:moveTo>
                <a:cubicBezTo>
                  <a:pt x="4978" y="6823"/>
                  <a:pt x="4802" y="7013"/>
                  <a:pt x="4787" y="7144"/>
                </a:cubicBezTo>
                <a:cubicBezTo>
                  <a:pt x="4795" y="7144"/>
                  <a:pt x="4804" y="7144"/>
                  <a:pt x="4812" y="7144"/>
                </a:cubicBezTo>
              </a:path>
              <a:path w="5160" h="2010">
                <a:moveTo>
                  <a:pt x="5308" y="6722"/>
                </a:moveTo>
                <a:cubicBezTo>
                  <a:pt x="5244" y="6751"/>
                  <a:pt x="5198" y="6797"/>
                  <a:pt x="5135" y="6846"/>
                </a:cubicBezTo>
                <a:cubicBezTo>
                  <a:pt x="5219" y="6889"/>
                  <a:pt x="5293" y="6917"/>
                  <a:pt x="5383" y="6945"/>
                </a:cubicBezTo>
                <a:cubicBezTo>
                  <a:pt x="5349" y="7098"/>
                  <a:pt x="5348" y="7045"/>
                  <a:pt x="5184" y="7069"/>
                </a:cubicBezTo>
              </a:path>
              <a:path w="5160" h="2010">
                <a:moveTo>
                  <a:pt x="5308" y="6697"/>
                </a:moveTo>
                <a:cubicBezTo>
                  <a:pt x="5421" y="6664"/>
                  <a:pt x="5516" y="6636"/>
                  <a:pt x="5631" y="6623"/>
                </a:cubicBezTo>
                <a:cubicBezTo>
                  <a:pt x="5685" y="6735"/>
                  <a:pt x="5603" y="6822"/>
                  <a:pt x="5606" y="6945"/>
                </a:cubicBezTo>
                <a:cubicBezTo>
                  <a:pt x="5614" y="6978"/>
                  <a:pt x="5623" y="7012"/>
                  <a:pt x="5631" y="7045"/>
                </a:cubicBezTo>
                <a:cubicBezTo>
                  <a:pt x="5759" y="7006"/>
                  <a:pt x="6056" y="6917"/>
                  <a:pt x="5879" y="6722"/>
                </a:cubicBezTo>
                <a:cubicBezTo>
                  <a:pt x="5780" y="6663"/>
                  <a:pt x="5765" y="6652"/>
                  <a:pt x="5705" y="6623"/>
                </a:cubicBezTo>
              </a:path>
              <a:path w="5160" h="2010">
                <a:moveTo>
                  <a:pt x="6028" y="6548"/>
                </a:moveTo>
                <a:cubicBezTo>
                  <a:pt x="6210" y="6814"/>
                  <a:pt x="6339" y="7019"/>
                  <a:pt x="5978" y="7218"/>
                </a:cubicBezTo>
                <a:cubicBezTo>
                  <a:pt x="5937" y="7226"/>
                  <a:pt x="5895" y="7235"/>
                  <a:pt x="5854" y="7243"/>
                </a:cubicBezTo>
              </a:path>
              <a:path w="5160" h="2010">
                <a:moveTo>
                  <a:pt x="7268" y="6598"/>
                </a:moveTo>
                <a:cubicBezTo>
                  <a:pt x="7156" y="6710"/>
                  <a:pt x="7096" y="6970"/>
                  <a:pt x="7144" y="7144"/>
                </a:cubicBezTo>
                <a:cubicBezTo>
                  <a:pt x="7204" y="7225"/>
                  <a:pt x="7209" y="7248"/>
                  <a:pt x="7268" y="7268"/>
                </a:cubicBezTo>
              </a:path>
              <a:path w="5160" h="2010">
                <a:moveTo>
                  <a:pt x="7491" y="6697"/>
                </a:moveTo>
                <a:cubicBezTo>
                  <a:pt x="7630" y="6722"/>
                  <a:pt x="7667" y="6741"/>
                  <a:pt x="7764" y="6846"/>
                </a:cubicBezTo>
                <a:cubicBezTo>
                  <a:pt x="7681" y="7024"/>
                  <a:pt x="7619" y="7031"/>
                  <a:pt x="7417" y="7045"/>
                </a:cubicBezTo>
                <a:cubicBezTo>
                  <a:pt x="7508" y="6921"/>
                  <a:pt x="7580" y="6925"/>
                  <a:pt x="7689" y="7045"/>
                </a:cubicBezTo>
                <a:cubicBezTo>
                  <a:pt x="7697" y="7061"/>
                  <a:pt x="7706" y="7078"/>
                  <a:pt x="7714" y="7094"/>
                </a:cubicBezTo>
              </a:path>
              <a:path w="5160" h="2010">
                <a:moveTo>
                  <a:pt x="7962" y="6672"/>
                </a:moveTo>
                <a:cubicBezTo>
                  <a:pt x="8054" y="6787"/>
                  <a:pt x="8146" y="6903"/>
                  <a:pt x="8235" y="7020"/>
                </a:cubicBezTo>
              </a:path>
              <a:path w="5160" h="2010">
                <a:moveTo>
                  <a:pt x="8260" y="6648"/>
                </a:moveTo>
                <a:cubicBezTo>
                  <a:pt x="8210" y="6757"/>
                  <a:pt x="8086" y="6919"/>
                  <a:pt x="8062" y="7020"/>
                </a:cubicBezTo>
                <a:cubicBezTo>
                  <a:pt x="8070" y="7028"/>
                  <a:pt x="8078" y="7037"/>
                  <a:pt x="8086" y="7045"/>
                </a:cubicBezTo>
              </a:path>
              <a:path w="5160" h="2010">
                <a:moveTo>
                  <a:pt x="8830" y="6623"/>
                </a:moveTo>
                <a:cubicBezTo>
                  <a:pt x="8808" y="6556"/>
                  <a:pt x="8648" y="6563"/>
                  <a:pt x="8582" y="6598"/>
                </a:cubicBezTo>
                <a:cubicBezTo>
                  <a:pt x="8557" y="6623"/>
                  <a:pt x="8533" y="6647"/>
                  <a:pt x="8508" y="6672"/>
                </a:cubicBezTo>
                <a:cubicBezTo>
                  <a:pt x="8559" y="6745"/>
                  <a:pt x="8769" y="6878"/>
                  <a:pt x="8756" y="6970"/>
                </a:cubicBezTo>
                <a:cubicBezTo>
                  <a:pt x="8739" y="7093"/>
                  <a:pt x="8608" y="7036"/>
                  <a:pt x="8558" y="7020"/>
                </a:cubicBezTo>
                <a:cubicBezTo>
                  <a:pt x="8591" y="6877"/>
                  <a:pt x="8705" y="6863"/>
                  <a:pt x="8756" y="6747"/>
                </a:cubicBezTo>
                <a:cubicBezTo>
                  <a:pt x="8756" y="6697"/>
                  <a:pt x="8756" y="6681"/>
                  <a:pt x="8756" y="6648"/>
                </a:cubicBezTo>
              </a:path>
              <a:path w="5160" h="2010">
                <a:moveTo>
                  <a:pt x="8930" y="6400"/>
                </a:moveTo>
                <a:cubicBezTo>
                  <a:pt x="9031" y="6482"/>
                  <a:pt x="9122" y="6700"/>
                  <a:pt x="9103" y="6846"/>
                </a:cubicBezTo>
                <a:cubicBezTo>
                  <a:pt x="9080" y="7028"/>
                  <a:pt x="8987" y="7098"/>
                  <a:pt x="8855" y="7193"/>
                </a:cubicBezTo>
              </a:path>
              <a:path w="5160" h="2010">
                <a:moveTo>
                  <a:pt x="6697" y="6152"/>
                </a:moveTo>
                <a:cubicBezTo>
                  <a:pt x="6720" y="6228"/>
                  <a:pt x="6771" y="6351"/>
                  <a:pt x="6846" y="6400"/>
                </a:cubicBezTo>
                <a:cubicBezTo>
                  <a:pt x="6970" y="6481"/>
                  <a:pt x="7217" y="6404"/>
                  <a:pt x="7317" y="6325"/>
                </a:cubicBezTo>
                <a:cubicBezTo>
                  <a:pt x="7463" y="6210"/>
                  <a:pt x="7503" y="5951"/>
                  <a:pt x="7466" y="5779"/>
                </a:cubicBezTo>
                <a:cubicBezTo>
                  <a:pt x="7440" y="5659"/>
                  <a:pt x="7347" y="5455"/>
                  <a:pt x="7243" y="5383"/>
                </a:cubicBezTo>
                <a:cubicBezTo>
                  <a:pt x="7162" y="5327"/>
                  <a:pt x="7032" y="5316"/>
                  <a:pt x="6945" y="5358"/>
                </a:cubicBezTo>
                <a:cubicBezTo>
                  <a:pt x="6801" y="5427"/>
                  <a:pt x="6731" y="5568"/>
                  <a:pt x="6672" y="5705"/>
                </a:cubicBezTo>
                <a:cubicBezTo>
                  <a:pt x="6602" y="5869"/>
                  <a:pt x="6569" y="6025"/>
                  <a:pt x="6697" y="6176"/>
                </a:cubicBezTo>
                <a:cubicBezTo>
                  <a:pt x="6763" y="6253"/>
                  <a:pt x="6777" y="6212"/>
                  <a:pt x="6846" y="6226"/>
                </a:cubicBezTo>
              </a:path>
              <a:path w="5160" h="2010">
                <a:moveTo>
                  <a:pt x="6598" y="6598"/>
                </a:moveTo>
                <a:cubicBezTo>
                  <a:pt x="6598" y="6731"/>
                  <a:pt x="6638" y="6897"/>
                  <a:pt x="6623" y="7020"/>
                </a:cubicBezTo>
                <a:cubicBezTo>
                  <a:pt x="6615" y="7020"/>
                  <a:pt x="6606" y="7020"/>
                  <a:pt x="6598" y="7020"/>
                </a:cubicBezTo>
              </a:path>
              <a:path w="5160" h="2010">
                <a:moveTo>
                  <a:pt x="6400" y="6846"/>
                </a:moveTo>
                <a:cubicBezTo>
                  <a:pt x="6500" y="6829"/>
                  <a:pt x="6593" y="6821"/>
                  <a:pt x="6697" y="6821"/>
                </a:cubicBezTo>
                <a:cubicBezTo>
                  <a:pt x="6722" y="6821"/>
                  <a:pt x="6747" y="6821"/>
                  <a:pt x="6772" y="68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43040" y="2652840"/>
            <a:ext cx="339840" cy="177840"/>
          </a:xfrm>
          <a:custGeom>
            <a:avLst/>
            <a:gdLst/>
            <a:ahLst/>
            <a:rect l="l" t="t" r="r" b="b"/>
            <a:pathLst>
              <a:path w="944" h="497">
                <a:moveTo>
                  <a:pt x="4589" y="7367"/>
                </a:moveTo>
                <a:cubicBezTo>
                  <a:pt x="4589" y="7519"/>
                  <a:pt x="4578" y="7664"/>
                  <a:pt x="4564" y="7813"/>
                </a:cubicBezTo>
                <a:cubicBezTo>
                  <a:pt x="4564" y="7830"/>
                  <a:pt x="4564" y="7846"/>
                  <a:pt x="4564" y="7863"/>
                </a:cubicBezTo>
              </a:path>
              <a:path w="944" h="497">
                <a:moveTo>
                  <a:pt x="4961" y="7441"/>
                </a:moveTo>
                <a:cubicBezTo>
                  <a:pt x="4866" y="7505"/>
                  <a:pt x="4763" y="7659"/>
                  <a:pt x="4837" y="7789"/>
                </a:cubicBezTo>
                <a:cubicBezTo>
                  <a:pt x="4925" y="7943"/>
                  <a:pt x="5155" y="7734"/>
                  <a:pt x="5085" y="7590"/>
                </a:cubicBezTo>
                <a:cubicBezTo>
                  <a:pt x="5048" y="7513"/>
                  <a:pt x="4982" y="7503"/>
                  <a:pt x="4911" y="7491"/>
                </a:cubicBezTo>
              </a:path>
              <a:path w="944" h="497">
                <a:moveTo>
                  <a:pt x="5333" y="7491"/>
                </a:moveTo>
                <a:cubicBezTo>
                  <a:pt x="5218" y="7587"/>
                  <a:pt x="5203" y="7666"/>
                  <a:pt x="5259" y="7789"/>
                </a:cubicBezTo>
                <a:cubicBezTo>
                  <a:pt x="5349" y="7773"/>
                  <a:pt x="5668" y="7664"/>
                  <a:pt x="5457" y="7516"/>
                </a:cubicBezTo>
                <a:cubicBezTo>
                  <a:pt x="5416" y="7508"/>
                  <a:pt x="5374" y="7499"/>
                  <a:pt x="5333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51080" y="2697120"/>
            <a:ext cx="133200" cy="14292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6424" y="7491"/>
                </a:moveTo>
                <a:cubicBezTo>
                  <a:pt x="6448" y="7631"/>
                  <a:pt x="6512" y="8015"/>
                  <a:pt x="6449" y="7888"/>
                </a:cubicBezTo>
                <a:cubicBezTo>
                  <a:pt x="6449" y="7871"/>
                  <a:pt x="6449" y="7855"/>
                  <a:pt x="6449" y="7838"/>
                </a:cubicBezTo>
              </a:path>
              <a:path w="373" h="398">
                <a:moveTo>
                  <a:pt x="6251" y="7714"/>
                </a:moveTo>
                <a:cubicBezTo>
                  <a:pt x="6376" y="7707"/>
                  <a:pt x="6497" y="7689"/>
                  <a:pt x="6623" y="76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32040" y="2678040"/>
            <a:ext cx="9720" cy="144360"/>
          </a:xfrm>
          <a:custGeom>
            <a:avLst/>
            <a:gdLst/>
            <a:ahLst/>
            <a:rect l="l" t="t" r="r" b="b"/>
            <a:pathLst>
              <a:path w="26" h="398">
                <a:moveTo>
                  <a:pt x="7590" y="7441"/>
                </a:moveTo>
                <a:cubicBezTo>
                  <a:pt x="7590" y="7537"/>
                  <a:pt x="7552" y="7835"/>
                  <a:pt x="7615" y="78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47960" y="2670120"/>
            <a:ext cx="169920" cy="152280"/>
          </a:xfrm>
          <a:custGeom>
            <a:avLst/>
            <a:gdLst/>
            <a:ahLst/>
            <a:rect l="l" t="t" r="r" b="b"/>
            <a:pathLst>
              <a:path w="472" h="422">
                <a:moveTo>
                  <a:pt x="7938" y="7417"/>
                </a:moveTo>
                <a:cubicBezTo>
                  <a:pt x="7918" y="7570"/>
                  <a:pt x="7907" y="7649"/>
                  <a:pt x="7962" y="7789"/>
                </a:cubicBezTo>
                <a:cubicBezTo>
                  <a:pt x="8091" y="7795"/>
                  <a:pt x="8399" y="7804"/>
                  <a:pt x="8384" y="7590"/>
                </a:cubicBezTo>
                <a:cubicBezTo>
                  <a:pt x="8367" y="7565"/>
                  <a:pt x="8351" y="7541"/>
                  <a:pt x="8334" y="7516"/>
                </a:cubicBezTo>
                <a:cubicBezTo>
                  <a:pt x="8281" y="7541"/>
                  <a:pt x="7988" y="7747"/>
                  <a:pt x="8161" y="7838"/>
                </a:cubicBezTo>
                <a:cubicBezTo>
                  <a:pt x="8186" y="7830"/>
                  <a:pt x="8210" y="7821"/>
                  <a:pt x="8235" y="78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97160" y="2660760"/>
            <a:ext cx="133560" cy="71280"/>
          </a:xfrm>
          <a:custGeom>
            <a:avLst/>
            <a:gdLst/>
            <a:ahLst/>
            <a:rect l="l" t="t" r="r" b="b"/>
            <a:pathLst>
              <a:path w="373" h="199">
                <a:moveTo>
                  <a:pt x="8880" y="7466"/>
                </a:moveTo>
                <a:cubicBezTo>
                  <a:pt x="8950" y="7424"/>
                  <a:pt x="9066" y="7408"/>
                  <a:pt x="9153" y="7392"/>
                </a:cubicBezTo>
                <a:cubicBezTo>
                  <a:pt x="9161" y="7392"/>
                  <a:pt x="9170" y="7392"/>
                  <a:pt x="9178" y="7392"/>
                </a:cubicBezTo>
              </a:path>
              <a:path w="373" h="199">
                <a:moveTo>
                  <a:pt x="8979" y="7590"/>
                </a:moveTo>
                <a:cubicBezTo>
                  <a:pt x="8994" y="7585"/>
                  <a:pt x="9285" y="7454"/>
                  <a:pt x="9227" y="75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00280" y="2536920"/>
            <a:ext cx="125640" cy="214200"/>
          </a:xfrm>
          <a:custGeom>
            <a:avLst/>
            <a:gdLst/>
            <a:ahLst/>
            <a:rect l="l" t="t" r="r" b="b"/>
            <a:pathLst>
              <a:path w="349" h="596">
                <a:moveTo>
                  <a:pt x="9798" y="7169"/>
                </a:moveTo>
                <a:cubicBezTo>
                  <a:pt x="9765" y="7322"/>
                  <a:pt x="9765" y="7482"/>
                  <a:pt x="9723" y="7640"/>
                </a:cubicBezTo>
              </a:path>
              <a:path w="349" h="596">
                <a:moveTo>
                  <a:pt x="10071" y="7045"/>
                </a:moveTo>
                <a:cubicBezTo>
                  <a:pt x="10071" y="7214"/>
                  <a:pt x="9928" y="7662"/>
                  <a:pt x="10046" y="7541"/>
                </a:cubicBezTo>
                <a:cubicBezTo>
                  <a:pt x="10054" y="7524"/>
                  <a:pt x="10063" y="7508"/>
                  <a:pt x="10071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59120" y="2544840"/>
            <a:ext cx="142920" cy="179280"/>
          </a:xfrm>
          <a:custGeom>
            <a:avLst/>
            <a:gdLst/>
            <a:ahLst/>
            <a:rect l="l" t="t" r="r" b="b"/>
            <a:pathLst>
              <a:path w="398" h="497">
                <a:moveTo>
                  <a:pt x="10443" y="7069"/>
                </a:moveTo>
                <a:cubicBezTo>
                  <a:pt x="10443" y="7185"/>
                  <a:pt x="10428" y="7305"/>
                  <a:pt x="10468" y="7417"/>
                </a:cubicBezTo>
                <a:cubicBezTo>
                  <a:pt x="10521" y="7566"/>
                  <a:pt x="10802" y="7506"/>
                  <a:pt x="10840" y="7367"/>
                </a:cubicBezTo>
                <a:cubicBezTo>
                  <a:pt x="10832" y="7334"/>
                  <a:pt x="10823" y="7301"/>
                  <a:pt x="10815" y="7268"/>
                </a:cubicBezTo>
                <a:cubicBezTo>
                  <a:pt x="10637" y="7250"/>
                  <a:pt x="10629" y="7365"/>
                  <a:pt x="10567" y="7516"/>
                </a:cubicBezTo>
                <a:cubicBezTo>
                  <a:pt x="10559" y="7532"/>
                  <a:pt x="10550" y="7549"/>
                  <a:pt x="10542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20840" y="3170160"/>
            <a:ext cx="1778040" cy="581040"/>
          </a:xfrm>
          <a:custGeom>
            <a:avLst/>
            <a:gdLst/>
            <a:ahLst/>
            <a:rect l="l" t="t" r="r" b="b"/>
            <a:pathLst>
              <a:path w="4937" h="1613">
                <a:moveTo>
                  <a:pt x="3969" y="9699"/>
                </a:moveTo>
                <a:cubicBezTo>
                  <a:pt x="3893" y="9873"/>
                  <a:pt x="3708" y="10019"/>
                  <a:pt x="3671" y="10220"/>
                </a:cubicBezTo>
                <a:cubicBezTo>
                  <a:pt x="3634" y="10422"/>
                  <a:pt x="3814" y="10354"/>
                  <a:pt x="3919" y="10344"/>
                </a:cubicBezTo>
              </a:path>
              <a:path w="4937" h="1613">
                <a:moveTo>
                  <a:pt x="4118" y="9823"/>
                </a:moveTo>
                <a:cubicBezTo>
                  <a:pt x="4069" y="9895"/>
                  <a:pt x="4036" y="9941"/>
                  <a:pt x="4018" y="10021"/>
                </a:cubicBezTo>
                <a:cubicBezTo>
                  <a:pt x="4137" y="10045"/>
                  <a:pt x="4221" y="10041"/>
                  <a:pt x="4341" y="10021"/>
                </a:cubicBezTo>
              </a:path>
              <a:path w="4937" h="1613">
                <a:moveTo>
                  <a:pt x="4291" y="9748"/>
                </a:moveTo>
                <a:cubicBezTo>
                  <a:pt x="4251" y="9938"/>
                  <a:pt x="4222" y="10132"/>
                  <a:pt x="4167" y="10319"/>
                </a:cubicBezTo>
                <a:cubicBezTo>
                  <a:pt x="4167" y="10311"/>
                  <a:pt x="4167" y="10302"/>
                  <a:pt x="4167" y="10294"/>
                </a:cubicBezTo>
              </a:path>
              <a:path w="4937" h="1613">
                <a:moveTo>
                  <a:pt x="4539" y="9823"/>
                </a:moveTo>
                <a:cubicBezTo>
                  <a:pt x="4548" y="9847"/>
                  <a:pt x="4710" y="10174"/>
                  <a:pt x="4713" y="10170"/>
                </a:cubicBezTo>
                <a:cubicBezTo>
                  <a:pt x="4729" y="10137"/>
                  <a:pt x="4746" y="10104"/>
                  <a:pt x="4762" y="10071"/>
                </a:cubicBezTo>
              </a:path>
              <a:path w="4937" h="1613">
                <a:moveTo>
                  <a:pt x="4738" y="9847"/>
                </a:moveTo>
                <a:cubicBezTo>
                  <a:pt x="4667" y="9967"/>
                  <a:pt x="4515" y="10183"/>
                  <a:pt x="4514" y="10269"/>
                </a:cubicBezTo>
              </a:path>
              <a:path w="4937" h="1613">
                <a:moveTo>
                  <a:pt x="4936" y="9847"/>
                </a:moveTo>
                <a:cubicBezTo>
                  <a:pt x="4926" y="9927"/>
                  <a:pt x="4834" y="10176"/>
                  <a:pt x="4887" y="10244"/>
                </a:cubicBezTo>
                <a:cubicBezTo>
                  <a:pt x="4967" y="10347"/>
                  <a:pt x="5141" y="10124"/>
                  <a:pt x="5159" y="10071"/>
                </a:cubicBezTo>
                <a:cubicBezTo>
                  <a:pt x="5012" y="10126"/>
                  <a:pt x="5001" y="10131"/>
                  <a:pt x="4936" y="10269"/>
                </a:cubicBezTo>
                <a:cubicBezTo>
                  <a:pt x="5054" y="10347"/>
                  <a:pt x="5126" y="10343"/>
                  <a:pt x="5234" y="10220"/>
                </a:cubicBezTo>
              </a:path>
              <a:path w="4937" h="1613">
                <a:moveTo>
                  <a:pt x="5407" y="9897"/>
                </a:moveTo>
                <a:cubicBezTo>
                  <a:pt x="5276" y="9981"/>
                  <a:pt x="5245" y="10054"/>
                  <a:pt x="5308" y="10195"/>
                </a:cubicBezTo>
                <a:cubicBezTo>
                  <a:pt x="5436" y="10165"/>
                  <a:pt x="5706" y="10034"/>
                  <a:pt x="5482" y="9897"/>
                </a:cubicBezTo>
                <a:cubicBezTo>
                  <a:pt x="5398" y="9876"/>
                  <a:pt x="5379" y="9874"/>
                  <a:pt x="5333" y="9847"/>
                </a:cubicBezTo>
              </a:path>
              <a:path w="4937" h="1613">
                <a:moveTo>
                  <a:pt x="5457" y="9649"/>
                </a:moveTo>
                <a:cubicBezTo>
                  <a:pt x="5608" y="9829"/>
                  <a:pt x="5913" y="10082"/>
                  <a:pt x="5631" y="10319"/>
                </a:cubicBezTo>
                <a:cubicBezTo>
                  <a:pt x="5556" y="10352"/>
                  <a:pt x="5482" y="10385"/>
                  <a:pt x="5407" y="10418"/>
                </a:cubicBezTo>
              </a:path>
              <a:path w="4937" h="1613">
                <a:moveTo>
                  <a:pt x="6821" y="9426"/>
                </a:moveTo>
                <a:cubicBezTo>
                  <a:pt x="6948" y="9566"/>
                  <a:pt x="7007" y="9686"/>
                  <a:pt x="7243" y="9599"/>
                </a:cubicBezTo>
                <a:cubicBezTo>
                  <a:pt x="7428" y="9531"/>
                  <a:pt x="7696" y="9142"/>
                  <a:pt x="7516" y="8954"/>
                </a:cubicBezTo>
                <a:cubicBezTo>
                  <a:pt x="7281" y="8709"/>
                  <a:pt x="6776" y="8782"/>
                  <a:pt x="6598" y="9054"/>
                </a:cubicBezTo>
                <a:cubicBezTo>
                  <a:pt x="6326" y="9471"/>
                  <a:pt x="6793" y="9473"/>
                  <a:pt x="7020" y="9426"/>
                </a:cubicBezTo>
              </a:path>
              <a:path w="4937" h="1613">
                <a:moveTo>
                  <a:pt x="6028" y="9947"/>
                </a:moveTo>
                <a:cubicBezTo>
                  <a:pt x="6028" y="10063"/>
                  <a:pt x="6028" y="10178"/>
                  <a:pt x="6028" y="10294"/>
                </a:cubicBezTo>
              </a:path>
              <a:path w="4937" h="1613">
                <a:moveTo>
                  <a:pt x="5879" y="10170"/>
                </a:moveTo>
                <a:cubicBezTo>
                  <a:pt x="5998" y="10154"/>
                  <a:pt x="6106" y="10145"/>
                  <a:pt x="6226" y="10145"/>
                </a:cubicBezTo>
              </a:path>
              <a:path w="4937" h="1613">
                <a:moveTo>
                  <a:pt x="6697" y="9699"/>
                </a:moveTo>
                <a:cubicBezTo>
                  <a:pt x="6600" y="9894"/>
                  <a:pt x="6544" y="10056"/>
                  <a:pt x="6623" y="10269"/>
                </a:cubicBezTo>
                <a:cubicBezTo>
                  <a:pt x="6665" y="10333"/>
                  <a:pt x="6668" y="10358"/>
                  <a:pt x="6722" y="10344"/>
                </a:cubicBezTo>
              </a:path>
              <a:path w="4937" h="1613">
                <a:moveTo>
                  <a:pt x="6970" y="9872"/>
                </a:moveTo>
                <a:cubicBezTo>
                  <a:pt x="6941" y="9959"/>
                  <a:pt x="6927" y="9988"/>
                  <a:pt x="6945" y="10071"/>
                </a:cubicBezTo>
                <a:cubicBezTo>
                  <a:pt x="7091" y="10062"/>
                  <a:pt x="7128" y="10054"/>
                  <a:pt x="7243" y="9971"/>
                </a:cubicBezTo>
              </a:path>
              <a:path w="4937" h="1613">
                <a:moveTo>
                  <a:pt x="7119" y="9798"/>
                </a:moveTo>
                <a:cubicBezTo>
                  <a:pt x="7080" y="9921"/>
                  <a:pt x="7013" y="10136"/>
                  <a:pt x="7069" y="10269"/>
                </a:cubicBezTo>
                <a:cubicBezTo>
                  <a:pt x="7077" y="10269"/>
                  <a:pt x="7086" y="10269"/>
                  <a:pt x="7094" y="10269"/>
                </a:cubicBezTo>
              </a:path>
              <a:path w="4937" h="1613">
                <a:moveTo>
                  <a:pt x="7441" y="9922"/>
                </a:moveTo>
                <a:cubicBezTo>
                  <a:pt x="7447" y="9957"/>
                  <a:pt x="7497" y="10254"/>
                  <a:pt x="7565" y="10244"/>
                </a:cubicBezTo>
                <a:cubicBezTo>
                  <a:pt x="7590" y="10228"/>
                  <a:pt x="7615" y="10211"/>
                  <a:pt x="7640" y="10195"/>
                </a:cubicBezTo>
              </a:path>
              <a:path w="4937" h="1613">
                <a:moveTo>
                  <a:pt x="7640" y="9872"/>
                </a:moveTo>
                <a:cubicBezTo>
                  <a:pt x="7621" y="9914"/>
                  <a:pt x="7472" y="10280"/>
                  <a:pt x="7491" y="10269"/>
                </a:cubicBezTo>
                <a:cubicBezTo>
                  <a:pt x="7524" y="10236"/>
                  <a:pt x="7557" y="10203"/>
                  <a:pt x="7590" y="10170"/>
                </a:cubicBezTo>
              </a:path>
              <a:path w="4937" h="1613">
                <a:moveTo>
                  <a:pt x="7962" y="9798"/>
                </a:moveTo>
                <a:cubicBezTo>
                  <a:pt x="8025" y="9787"/>
                  <a:pt x="8204" y="9705"/>
                  <a:pt x="8186" y="9847"/>
                </a:cubicBezTo>
                <a:cubicBezTo>
                  <a:pt x="8132" y="9928"/>
                  <a:pt x="8110" y="9956"/>
                  <a:pt x="8037" y="9971"/>
                </a:cubicBezTo>
                <a:cubicBezTo>
                  <a:pt x="8064" y="10052"/>
                  <a:pt x="8160" y="9896"/>
                  <a:pt x="8235" y="10021"/>
                </a:cubicBezTo>
                <a:cubicBezTo>
                  <a:pt x="8347" y="10208"/>
                  <a:pt x="7888" y="10258"/>
                  <a:pt x="7888" y="10220"/>
                </a:cubicBezTo>
                <a:cubicBezTo>
                  <a:pt x="7913" y="10179"/>
                  <a:pt x="7937" y="10137"/>
                  <a:pt x="7962" y="10096"/>
                </a:cubicBezTo>
              </a:path>
              <a:path w="4937" h="1613">
                <a:moveTo>
                  <a:pt x="8359" y="9575"/>
                </a:moveTo>
                <a:cubicBezTo>
                  <a:pt x="8559" y="9811"/>
                  <a:pt x="8752" y="10035"/>
                  <a:pt x="8434" y="10294"/>
                </a:cubicBezTo>
                <a:cubicBezTo>
                  <a:pt x="8277" y="10361"/>
                  <a:pt x="8236" y="10392"/>
                  <a:pt x="8136" y="103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93920" y="3795840"/>
            <a:ext cx="534960" cy="187200"/>
          </a:xfrm>
          <a:custGeom>
            <a:avLst/>
            <a:gdLst/>
            <a:ahLst/>
            <a:rect l="l" t="t" r="r" b="b"/>
            <a:pathLst>
              <a:path w="1489" h="522">
                <a:moveTo>
                  <a:pt x="4093" y="10616"/>
                </a:moveTo>
                <a:cubicBezTo>
                  <a:pt x="4109" y="10591"/>
                  <a:pt x="4126" y="10567"/>
                  <a:pt x="4142" y="10542"/>
                </a:cubicBezTo>
                <a:cubicBezTo>
                  <a:pt x="4364" y="10641"/>
                  <a:pt x="4443" y="10804"/>
                  <a:pt x="4192" y="10988"/>
                </a:cubicBezTo>
                <a:cubicBezTo>
                  <a:pt x="4029" y="11108"/>
                  <a:pt x="3939" y="11080"/>
                  <a:pt x="3870" y="10964"/>
                </a:cubicBezTo>
                <a:cubicBezTo>
                  <a:pt x="4043" y="10841"/>
                  <a:pt x="4107" y="10833"/>
                  <a:pt x="4291" y="10964"/>
                </a:cubicBezTo>
                <a:cubicBezTo>
                  <a:pt x="4299" y="10972"/>
                  <a:pt x="4308" y="10980"/>
                  <a:pt x="4316" y="10988"/>
                </a:cubicBezTo>
              </a:path>
              <a:path w="1489" h="522">
                <a:moveTo>
                  <a:pt x="4539" y="10616"/>
                </a:moveTo>
                <a:cubicBezTo>
                  <a:pt x="4539" y="10676"/>
                  <a:pt x="4522" y="10864"/>
                  <a:pt x="4589" y="10889"/>
                </a:cubicBezTo>
                <a:cubicBezTo>
                  <a:pt x="4741" y="10946"/>
                  <a:pt x="4826" y="10826"/>
                  <a:pt x="4911" y="10740"/>
                </a:cubicBezTo>
              </a:path>
              <a:path w="1489" h="522">
                <a:moveTo>
                  <a:pt x="4887" y="10641"/>
                </a:moveTo>
                <a:cubicBezTo>
                  <a:pt x="4862" y="10782"/>
                  <a:pt x="4721" y="11031"/>
                  <a:pt x="4887" y="11013"/>
                </a:cubicBezTo>
              </a:path>
              <a:path w="1489" h="522">
                <a:moveTo>
                  <a:pt x="5184" y="10641"/>
                </a:moveTo>
                <a:cubicBezTo>
                  <a:pt x="5087" y="10765"/>
                  <a:pt x="5076" y="10806"/>
                  <a:pt x="5060" y="10964"/>
                </a:cubicBezTo>
                <a:cubicBezTo>
                  <a:pt x="5149" y="10971"/>
                  <a:pt x="5453" y="10924"/>
                  <a:pt x="5358" y="10740"/>
                </a:cubicBezTo>
                <a:cubicBezTo>
                  <a:pt x="5256" y="10542"/>
                  <a:pt x="5087" y="10779"/>
                  <a:pt x="5259" y="105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43080" y="3813120"/>
            <a:ext cx="482760" cy="179280"/>
          </a:xfrm>
          <a:custGeom>
            <a:avLst/>
            <a:gdLst/>
            <a:ahLst/>
            <a:rect l="l" t="t" r="r" b="b"/>
            <a:pathLst>
              <a:path w="1341" h="497">
                <a:moveTo>
                  <a:pt x="6028" y="10592"/>
                </a:moveTo>
                <a:cubicBezTo>
                  <a:pt x="6028" y="10669"/>
                  <a:pt x="6063" y="10909"/>
                  <a:pt x="6003" y="10889"/>
                </a:cubicBezTo>
              </a:path>
              <a:path w="1341" h="497">
                <a:moveTo>
                  <a:pt x="5953" y="10765"/>
                </a:moveTo>
                <a:cubicBezTo>
                  <a:pt x="6101" y="10740"/>
                  <a:pt x="6150" y="10732"/>
                  <a:pt x="6251" y="10740"/>
                </a:cubicBezTo>
              </a:path>
              <a:path w="1341" h="497">
                <a:moveTo>
                  <a:pt x="6251" y="10740"/>
                </a:moveTo>
                <a:lnTo>
                  <a:pt x="6251" y="10740"/>
                </a:lnTo>
              </a:path>
              <a:path w="1341" h="497">
                <a:moveTo>
                  <a:pt x="6722" y="10716"/>
                </a:moveTo>
                <a:cubicBezTo>
                  <a:pt x="6722" y="10834"/>
                  <a:pt x="6704" y="10962"/>
                  <a:pt x="6747" y="11063"/>
                </a:cubicBezTo>
              </a:path>
              <a:path w="1341" h="497">
                <a:moveTo>
                  <a:pt x="6995" y="10691"/>
                </a:moveTo>
                <a:cubicBezTo>
                  <a:pt x="7128" y="10719"/>
                  <a:pt x="7392" y="10852"/>
                  <a:pt x="7193" y="11038"/>
                </a:cubicBezTo>
                <a:cubicBezTo>
                  <a:pt x="7086" y="11081"/>
                  <a:pt x="7062" y="11104"/>
                  <a:pt x="6995" y="11063"/>
                </a:cubicBezTo>
                <a:cubicBezTo>
                  <a:pt x="7036" y="10954"/>
                  <a:pt x="7147" y="10920"/>
                  <a:pt x="7268" y="10988"/>
                </a:cubicBezTo>
                <a:cubicBezTo>
                  <a:pt x="7268" y="11013"/>
                  <a:pt x="7268" y="11021"/>
                  <a:pt x="7293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89160" y="3830760"/>
            <a:ext cx="152640" cy="63360"/>
          </a:xfrm>
          <a:custGeom>
            <a:avLst/>
            <a:gdLst/>
            <a:ahLst/>
            <a:rect l="l" t="t" r="r" b="b"/>
            <a:pathLst>
              <a:path w="423" h="175">
                <a:moveTo>
                  <a:pt x="8582" y="10641"/>
                </a:moveTo>
                <a:cubicBezTo>
                  <a:pt x="8658" y="10641"/>
                  <a:pt x="8845" y="10626"/>
                  <a:pt x="8905" y="10666"/>
                </a:cubicBezTo>
                <a:cubicBezTo>
                  <a:pt x="8897" y="10674"/>
                  <a:pt x="8888" y="10683"/>
                  <a:pt x="8880" y="10691"/>
                </a:cubicBezTo>
              </a:path>
              <a:path w="423" h="175">
                <a:moveTo>
                  <a:pt x="8682" y="10815"/>
                </a:moveTo>
                <a:cubicBezTo>
                  <a:pt x="8840" y="10788"/>
                  <a:pt x="8899" y="10777"/>
                  <a:pt x="9004" y="10740"/>
                </a:cubicBezTo>
              </a:path>
              <a:path w="423" h="175">
                <a:moveTo>
                  <a:pt x="9004" y="10740"/>
                </a:moveTo>
                <a:lnTo>
                  <a:pt x="9004" y="1074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56000" y="3679920"/>
            <a:ext cx="901800" cy="241200"/>
          </a:xfrm>
          <a:custGeom>
            <a:avLst/>
            <a:gdLst/>
            <a:ahLst/>
            <a:rect l="l" t="t" r="r" b="b"/>
            <a:pathLst>
              <a:path w="2507" h="670">
                <a:moveTo>
                  <a:pt x="9599" y="10393"/>
                </a:moveTo>
                <a:cubicBezTo>
                  <a:pt x="9770" y="10343"/>
                  <a:pt x="10186" y="10308"/>
                  <a:pt x="10120" y="10641"/>
                </a:cubicBezTo>
                <a:cubicBezTo>
                  <a:pt x="10069" y="10898"/>
                  <a:pt x="9786" y="10869"/>
                  <a:pt x="9599" y="10889"/>
                </a:cubicBezTo>
                <a:cubicBezTo>
                  <a:pt x="9715" y="10750"/>
                  <a:pt x="9933" y="10646"/>
                  <a:pt x="10120" y="10790"/>
                </a:cubicBezTo>
                <a:cubicBezTo>
                  <a:pt x="10120" y="10807"/>
                  <a:pt x="10120" y="10823"/>
                  <a:pt x="10120" y="10840"/>
                </a:cubicBezTo>
              </a:path>
              <a:path w="2507" h="670">
                <a:moveTo>
                  <a:pt x="10716" y="10294"/>
                </a:moveTo>
                <a:cubicBezTo>
                  <a:pt x="10608" y="10308"/>
                  <a:pt x="10473" y="10317"/>
                  <a:pt x="10368" y="10344"/>
                </a:cubicBezTo>
                <a:cubicBezTo>
                  <a:pt x="10330" y="10354"/>
                  <a:pt x="10344" y="10420"/>
                  <a:pt x="10344" y="10443"/>
                </a:cubicBezTo>
                <a:cubicBezTo>
                  <a:pt x="10362" y="10630"/>
                  <a:pt x="10515" y="10490"/>
                  <a:pt x="10666" y="10492"/>
                </a:cubicBezTo>
                <a:cubicBezTo>
                  <a:pt x="10817" y="10514"/>
                  <a:pt x="10858" y="10505"/>
                  <a:pt x="10914" y="10592"/>
                </a:cubicBezTo>
                <a:cubicBezTo>
                  <a:pt x="10890" y="10623"/>
                  <a:pt x="10441" y="10980"/>
                  <a:pt x="10468" y="10740"/>
                </a:cubicBezTo>
                <a:cubicBezTo>
                  <a:pt x="10501" y="10691"/>
                  <a:pt x="10534" y="10641"/>
                  <a:pt x="10567" y="10592"/>
                </a:cubicBezTo>
              </a:path>
              <a:path w="2507" h="670">
                <a:moveTo>
                  <a:pt x="11261" y="10269"/>
                </a:moveTo>
                <a:cubicBezTo>
                  <a:pt x="11199" y="10269"/>
                  <a:pt x="11420" y="10216"/>
                  <a:pt x="11460" y="10220"/>
                </a:cubicBezTo>
                <a:cubicBezTo>
                  <a:pt x="11476" y="10228"/>
                  <a:pt x="11493" y="10236"/>
                  <a:pt x="11509" y="10244"/>
                </a:cubicBezTo>
                <a:cubicBezTo>
                  <a:pt x="11441" y="10373"/>
                  <a:pt x="11437" y="10386"/>
                  <a:pt x="11286" y="10418"/>
                </a:cubicBezTo>
                <a:cubicBezTo>
                  <a:pt x="11360" y="10381"/>
                  <a:pt x="11574" y="10317"/>
                  <a:pt x="11609" y="10468"/>
                </a:cubicBezTo>
                <a:cubicBezTo>
                  <a:pt x="11633" y="10572"/>
                  <a:pt x="11512" y="10793"/>
                  <a:pt x="11385" y="10765"/>
                </a:cubicBezTo>
                <a:cubicBezTo>
                  <a:pt x="11369" y="10761"/>
                  <a:pt x="11326" y="10727"/>
                  <a:pt x="11311" y="10716"/>
                </a:cubicBezTo>
              </a:path>
              <a:path w="2507" h="670">
                <a:moveTo>
                  <a:pt x="11460" y="10344"/>
                </a:moveTo>
                <a:cubicBezTo>
                  <a:pt x="11393" y="10344"/>
                  <a:pt x="11414" y="10347"/>
                  <a:pt x="11336" y="10393"/>
                </a:cubicBezTo>
                <a:cubicBezTo>
                  <a:pt x="11276" y="10482"/>
                  <a:pt x="11496" y="10307"/>
                  <a:pt x="11534" y="10294"/>
                </a:cubicBezTo>
                <a:cubicBezTo>
                  <a:pt x="11721" y="10229"/>
                  <a:pt x="11498" y="10701"/>
                  <a:pt x="11460" y="10740"/>
                </a:cubicBezTo>
                <a:cubicBezTo>
                  <a:pt x="11354" y="10849"/>
                  <a:pt x="11254" y="10848"/>
                  <a:pt x="11137" y="10790"/>
                </a:cubicBezTo>
                <a:cubicBezTo>
                  <a:pt x="11280" y="10626"/>
                  <a:pt x="11498" y="10633"/>
                  <a:pt x="11708" y="10666"/>
                </a:cubicBezTo>
                <a:cubicBezTo>
                  <a:pt x="11849" y="10688"/>
                  <a:pt x="12059" y="10950"/>
                  <a:pt x="12105" y="10815"/>
                </a:cubicBezTo>
                <a:cubicBezTo>
                  <a:pt x="12105" y="10782"/>
                  <a:pt x="12105" y="10749"/>
                  <a:pt x="12105" y="10716"/>
                </a:cubicBezTo>
              </a:path>
              <a:path w="2507" h="670">
                <a:moveTo>
                  <a:pt x="11311" y="10393"/>
                </a:moveTo>
                <a:cubicBezTo>
                  <a:pt x="11311" y="10351"/>
                  <a:pt x="11321" y="10355"/>
                  <a:pt x="11286" y="10344"/>
                </a:cubicBezTo>
                <a:cubicBezTo>
                  <a:pt x="11341" y="10316"/>
                  <a:pt x="11364" y="10308"/>
                  <a:pt x="11410" y="103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66920" y="4357800"/>
            <a:ext cx="1982880" cy="642960"/>
          </a:xfrm>
          <a:custGeom>
            <a:avLst/>
            <a:gdLst/>
            <a:ahLst/>
            <a:rect l="l" t="t" r="r" b="b"/>
            <a:pathLst>
              <a:path w="5508" h="1787">
                <a:moveTo>
                  <a:pt x="3969" y="13146"/>
                </a:moveTo>
                <a:cubicBezTo>
                  <a:pt x="3912" y="12982"/>
                  <a:pt x="3819" y="13396"/>
                  <a:pt x="3795" y="13568"/>
                </a:cubicBezTo>
                <a:cubicBezTo>
                  <a:pt x="3769" y="13756"/>
                  <a:pt x="3753" y="13946"/>
                  <a:pt x="3944" y="13841"/>
                </a:cubicBezTo>
              </a:path>
              <a:path w="5508" h="1787">
                <a:moveTo>
                  <a:pt x="4118" y="13271"/>
                </a:moveTo>
                <a:cubicBezTo>
                  <a:pt x="4118" y="13387"/>
                  <a:pt x="4118" y="13666"/>
                  <a:pt x="4118" y="13692"/>
                </a:cubicBezTo>
              </a:path>
              <a:path w="5508" h="1787">
                <a:moveTo>
                  <a:pt x="4390" y="13246"/>
                </a:moveTo>
                <a:cubicBezTo>
                  <a:pt x="4558" y="13338"/>
                  <a:pt x="4809" y="13504"/>
                  <a:pt x="4589" y="13717"/>
                </a:cubicBezTo>
                <a:cubicBezTo>
                  <a:pt x="4505" y="13738"/>
                  <a:pt x="4486" y="13753"/>
                  <a:pt x="4440" y="13717"/>
                </a:cubicBezTo>
                <a:cubicBezTo>
                  <a:pt x="4459" y="13587"/>
                  <a:pt x="4609" y="13634"/>
                  <a:pt x="4713" y="13667"/>
                </a:cubicBezTo>
                <a:cubicBezTo>
                  <a:pt x="4721" y="13675"/>
                  <a:pt x="4730" y="13684"/>
                  <a:pt x="4738" y="13692"/>
                </a:cubicBezTo>
              </a:path>
              <a:path w="5508" h="1787">
                <a:moveTo>
                  <a:pt x="4911" y="13370"/>
                </a:moveTo>
                <a:cubicBezTo>
                  <a:pt x="4982" y="13452"/>
                  <a:pt x="5040" y="13580"/>
                  <a:pt x="5135" y="13618"/>
                </a:cubicBezTo>
              </a:path>
              <a:path w="5508" h="1787">
                <a:moveTo>
                  <a:pt x="5035" y="13320"/>
                </a:moveTo>
                <a:cubicBezTo>
                  <a:pt x="5004" y="13452"/>
                  <a:pt x="4979" y="13590"/>
                  <a:pt x="4936" y="13717"/>
                </a:cubicBezTo>
              </a:path>
              <a:path w="5508" h="1787">
                <a:moveTo>
                  <a:pt x="5358" y="13271"/>
                </a:moveTo>
                <a:cubicBezTo>
                  <a:pt x="5358" y="13427"/>
                  <a:pt x="5270" y="13663"/>
                  <a:pt x="5407" y="13593"/>
                </a:cubicBezTo>
              </a:path>
              <a:path w="5508" h="1787">
                <a:moveTo>
                  <a:pt x="5631" y="13271"/>
                </a:moveTo>
                <a:cubicBezTo>
                  <a:pt x="5547" y="13415"/>
                  <a:pt x="5523" y="13478"/>
                  <a:pt x="5531" y="13643"/>
                </a:cubicBezTo>
                <a:cubicBezTo>
                  <a:pt x="5696" y="13654"/>
                  <a:pt x="5851" y="13580"/>
                  <a:pt x="5755" y="13370"/>
                </a:cubicBezTo>
                <a:cubicBezTo>
                  <a:pt x="5689" y="13304"/>
                  <a:pt x="5672" y="13287"/>
                  <a:pt x="5631" y="13246"/>
                </a:cubicBezTo>
              </a:path>
              <a:path w="5508" h="1787">
                <a:moveTo>
                  <a:pt x="5879" y="13221"/>
                </a:moveTo>
                <a:cubicBezTo>
                  <a:pt x="5992" y="13583"/>
                  <a:pt x="6010" y="13677"/>
                  <a:pt x="5655" y="13841"/>
                </a:cubicBezTo>
              </a:path>
              <a:path w="5508" h="1787">
                <a:moveTo>
                  <a:pt x="6325" y="13221"/>
                </a:moveTo>
                <a:cubicBezTo>
                  <a:pt x="6325" y="13346"/>
                  <a:pt x="6346" y="13468"/>
                  <a:pt x="6350" y="13593"/>
                </a:cubicBezTo>
                <a:cubicBezTo>
                  <a:pt x="6350" y="13635"/>
                  <a:pt x="6350" y="13660"/>
                  <a:pt x="6350" y="13618"/>
                </a:cubicBezTo>
              </a:path>
              <a:path w="5508" h="1787">
                <a:moveTo>
                  <a:pt x="6176" y="13419"/>
                </a:moveTo>
                <a:cubicBezTo>
                  <a:pt x="6291" y="13395"/>
                  <a:pt x="6410" y="13395"/>
                  <a:pt x="6524" y="13370"/>
                </a:cubicBezTo>
                <a:cubicBezTo>
                  <a:pt x="6549" y="13362"/>
                  <a:pt x="6573" y="13353"/>
                  <a:pt x="6598" y="13345"/>
                </a:cubicBezTo>
              </a:path>
              <a:path w="5508" h="1787">
                <a:moveTo>
                  <a:pt x="6995" y="12725"/>
                </a:moveTo>
                <a:cubicBezTo>
                  <a:pt x="7129" y="12778"/>
                  <a:pt x="7191" y="12847"/>
                  <a:pt x="7367" y="12824"/>
                </a:cubicBezTo>
                <a:cubicBezTo>
                  <a:pt x="7608" y="12792"/>
                  <a:pt x="7774" y="12626"/>
                  <a:pt x="7739" y="12378"/>
                </a:cubicBezTo>
                <a:cubicBezTo>
                  <a:pt x="7703" y="12122"/>
                  <a:pt x="7372" y="12065"/>
                  <a:pt x="7169" y="12129"/>
                </a:cubicBezTo>
                <a:cubicBezTo>
                  <a:pt x="6932" y="12204"/>
                  <a:pt x="6840" y="12547"/>
                  <a:pt x="7069" y="12700"/>
                </a:cubicBezTo>
                <a:cubicBezTo>
                  <a:pt x="7127" y="12717"/>
                  <a:pt x="7185" y="12733"/>
                  <a:pt x="7243" y="12750"/>
                </a:cubicBezTo>
              </a:path>
              <a:path w="5508" h="1787">
                <a:moveTo>
                  <a:pt x="6995" y="12948"/>
                </a:moveTo>
                <a:cubicBezTo>
                  <a:pt x="6913" y="13162"/>
                  <a:pt x="6851" y="13414"/>
                  <a:pt x="6921" y="13643"/>
                </a:cubicBezTo>
                <a:cubicBezTo>
                  <a:pt x="7012" y="13938"/>
                  <a:pt x="7221" y="13638"/>
                  <a:pt x="7293" y="13543"/>
                </a:cubicBezTo>
              </a:path>
              <a:path w="5508" h="1787">
                <a:moveTo>
                  <a:pt x="7268" y="13171"/>
                </a:moveTo>
                <a:cubicBezTo>
                  <a:pt x="7286" y="13321"/>
                  <a:pt x="7297" y="13468"/>
                  <a:pt x="7317" y="13618"/>
                </a:cubicBezTo>
              </a:path>
              <a:path w="5508" h="1787">
                <a:moveTo>
                  <a:pt x="7541" y="13171"/>
                </a:moveTo>
                <a:cubicBezTo>
                  <a:pt x="7689" y="13241"/>
                  <a:pt x="7921" y="13392"/>
                  <a:pt x="7714" y="13568"/>
                </a:cubicBezTo>
                <a:cubicBezTo>
                  <a:pt x="7595" y="13669"/>
                  <a:pt x="7535" y="13606"/>
                  <a:pt x="7491" y="13519"/>
                </a:cubicBezTo>
                <a:cubicBezTo>
                  <a:pt x="7653" y="13437"/>
                  <a:pt x="7683" y="13482"/>
                  <a:pt x="7813" y="13568"/>
                </a:cubicBezTo>
                <a:cubicBezTo>
                  <a:pt x="7821" y="13568"/>
                  <a:pt x="7830" y="13568"/>
                  <a:pt x="7838" y="13568"/>
                </a:cubicBezTo>
              </a:path>
              <a:path w="5508" h="1787">
                <a:moveTo>
                  <a:pt x="8111" y="13146"/>
                </a:moveTo>
                <a:cubicBezTo>
                  <a:pt x="8147" y="13254"/>
                  <a:pt x="8184" y="13449"/>
                  <a:pt x="8285" y="13519"/>
                </a:cubicBezTo>
                <a:cubicBezTo>
                  <a:pt x="8293" y="13519"/>
                  <a:pt x="8302" y="13519"/>
                  <a:pt x="8310" y="13519"/>
                </a:cubicBezTo>
              </a:path>
              <a:path w="5508" h="1787">
                <a:moveTo>
                  <a:pt x="8359" y="13171"/>
                </a:moveTo>
                <a:cubicBezTo>
                  <a:pt x="8295" y="13258"/>
                  <a:pt x="8161" y="13427"/>
                  <a:pt x="8161" y="13543"/>
                </a:cubicBezTo>
                <a:cubicBezTo>
                  <a:pt x="8204" y="13586"/>
                  <a:pt x="8234" y="13583"/>
                  <a:pt x="8285" y="13519"/>
                </a:cubicBezTo>
              </a:path>
              <a:path w="5508" h="1787">
                <a:moveTo>
                  <a:pt x="8830" y="13122"/>
                </a:moveTo>
                <a:cubicBezTo>
                  <a:pt x="8781" y="13138"/>
                  <a:pt x="8663" y="13150"/>
                  <a:pt x="8657" y="13196"/>
                </a:cubicBezTo>
                <a:cubicBezTo>
                  <a:pt x="8647" y="13273"/>
                  <a:pt x="8666" y="13286"/>
                  <a:pt x="8731" y="13320"/>
                </a:cubicBezTo>
                <a:cubicBezTo>
                  <a:pt x="8831" y="13372"/>
                  <a:pt x="9030" y="13534"/>
                  <a:pt x="8806" y="13618"/>
                </a:cubicBezTo>
                <a:cubicBezTo>
                  <a:pt x="8629" y="13684"/>
                  <a:pt x="8603" y="13554"/>
                  <a:pt x="8558" y="13444"/>
                </a:cubicBezTo>
              </a:path>
              <a:path w="5508" h="1787">
                <a:moveTo>
                  <a:pt x="8830" y="13122"/>
                </a:moveTo>
                <a:cubicBezTo>
                  <a:pt x="8874" y="13089"/>
                  <a:pt x="8896" y="13097"/>
                  <a:pt x="8954" y="13097"/>
                </a:cubicBezTo>
              </a:path>
              <a:path w="5508" h="1787">
                <a:moveTo>
                  <a:pt x="8905" y="12874"/>
                </a:moveTo>
                <a:cubicBezTo>
                  <a:pt x="9178" y="13015"/>
                  <a:pt x="9411" y="13216"/>
                  <a:pt x="9252" y="13568"/>
                </a:cubicBezTo>
                <a:cubicBezTo>
                  <a:pt x="9127" y="13693"/>
                  <a:pt x="9084" y="13735"/>
                  <a:pt x="8954" y="137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00120" y="5143680"/>
            <a:ext cx="438120" cy="187200"/>
          </a:xfrm>
          <a:custGeom>
            <a:avLst/>
            <a:gdLst/>
            <a:ahLst/>
            <a:rect l="l" t="t" r="r" b="b"/>
            <a:pathLst>
              <a:path w="1217" h="521">
                <a:moveTo>
                  <a:pt x="4167" y="14288"/>
                </a:moveTo>
                <a:cubicBezTo>
                  <a:pt x="4289" y="14348"/>
                  <a:pt x="4232" y="14572"/>
                  <a:pt x="4217" y="14684"/>
                </a:cubicBezTo>
                <a:cubicBezTo>
                  <a:pt x="4209" y="14725"/>
                  <a:pt x="4200" y="14767"/>
                  <a:pt x="4192" y="14808"/>
                </a:cubicBezTo>
              </a:path>
              <a:path w="1217" h="521">
                <a:moveTo>
                  <a:pt x="4638" y="14312"/>
                </a:moveTo>
                <a:cubicBezTo>
                  <a:pt x="4787" y="14333"/>
                  <a:pt x="4901" y="14468"/>
                  <a:pt x="4837" y="14635"/>
                </a:cubicBezTo>
                <a:cubicBezTo>
                  <a:pt x="4781" y="14781"/>
                  <a:pt x="4647" y="14750"/>
                  <a:pt x="4539" y="14734"/>
                </a:cubicBezTo>
                <a:cubicBezTo>
                  <a:pt x="4618" y="14624"/>
                  <a:pt x="4730" y="14628"/>
                  <a:pt x="4862" y="14660"/>
                </a:cubicBezTo>
                <a:cubicBezTo>
                  <a:pt x="4917" y="14687"/>
                  <a:pt x="4940" y="14695"/>
                  <a:pt x="4986" y="14684"/>
                </a:cubicBezTo>
              </a:path>
              <a:path w="1217" h="521">
                <a:moveTo>
                  <a:pt x="5209" y="14312"/>
                </a:moveTo>
                <a:cubicBezTo>
                  <a:pt x="5097" y="14453"/>
                  <a:pt x="5082" y="14507"/>
                  <a:pt x="5060" y="14684"/>
                </a:cubicBezTo>
                <a:cubicBezTo>
                  <a:pt x="5214" y="14717"/>
                  <a:pt x="5371" y="14722"/>
                  <a:pt x="5383" y="14511"/>
                </a:cubicBezTo>
                <a:cubicBezTo>
                  <a:pt x="5389" y="14408"/>
                  <a:pt x="5336" y="14388"/>
                  <a:pt x="5259" y="143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41720" y="5089680"/>
            <a:ext cx="571320" cy="206280"/>
          </a:xfrm>
          <a:custGeom>
            <a:avLst/>
            <a:gdLst/>
            <a:ahLst/>
            <a:rect l="l" t="t" r="r" b="b"/>
            <a:pathLst>
              <a:path w="1588" h="571">
                <a:moveTo>
                  <a:pt x="6350" y="14213"/>
                </a:moveTo>
                <a:cubicBezTo>
                  <a:pt x="6350" y="14353"/>
                  <a:pt x="6330" y="14474"/>
                  <a:pt x="6300" y="14610"/>
                </a:cubicBezTo>
              </a:path>
              <a:path w="1588" h="571">
                <a:moveTo>
                  <a:pt x="6226" y="14436"/>
                </a:moveTo>
                <a:cubicBezTo>
                  <a:pt x="6351" y="14412"/>
                  <a:pt x="6477" y="14395"/>
                  <a:pt x="6598" y="14362"/>
                </a:cubicBezTo>
              </a:path>
              <a:path w="1588" h="571">
                <a:moveTo>
                  <a:pt x="6970" y="14139"/>
                </a:moveTo>
                <a:cubicBezTo>
                  <a:pt x="6970" y="14285"/>
                  <a:pt x="6896" y="14412"/>
                  <a:pt x="6896" y="14560"/>
                </a:cubicBezTo>
                <a:cubicBezTo>
                  <a:pt x="6904" y="14601"/>
                  <a:pt x="6913" y="14643"/>
                  <a:pt x="6921" y="14684"/>
                </a:cubicBezTo>
                <a:cubicBezTo>
                  <a:pt x="7075" y="14706"/>
                  <a:pt x="7249" y="14686"/>
                  <a:pt x="7268" y="14486"/>
                </a:cubicBezTo>
                <a:cubicBezTo>
                  <a:pt x="7260" y="14461"/>
                  <a:pt x="7251" y="14437"/>
                  <a:pt x="7243" y="14412"/>
                </a:cubicBezTo>
                <a:cubicBezTo>
                  <a:pt x="7094" y="14455"/>
                  <a:pt x="7004" y="14500"/>
                  <a:pt x="7020" y="14660"/>
                </a:cubicBezTo>
                <a:cubicBezTo>
                  <a:pt x="7153" y="14660"/>
                  <a:pt x="7215" y="14643"/>
                  <a:pt x="7293" y="14560"/>
                </a:cubicBezTo>
              </a:path>
              <a:path w="1588" h="571">
                <a:moveTo>
                  <a:pt x="7491" y="14188"/>
                </a:moveTo>
                <a:cubicBezTo>
                  <a:pt x="7451" y="14352"/>
                  <a:pt x="7439" y="14443"/>
                  <a:pt x="7466" y="14610"/>
                </a:cubicBezTo>
                <a:cubicBezTo>
                  <a:pt x="7666" y="14580"/>
                  <a:pt x="7895" y="14478"/>
                  <a:pt x="7789" y="14213"/>
                </a:cubicBezTo>
                <a:cubicBezTo>
                  <a:pt x="7718" y="14166"/>
                  <a:pt x="7699" y="14149"/>
                  <a:pt x="7640" y="141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14800" y="5106960"/>
            <a:ext cx="187200" cy="108000"/>
          </a:xfrm>
          <a:custGeom>
            <a:avLst/>
            <a:gdLst/>
            <a:ahLst/>
            <a:rect l="l" t="t" r="r" b="b"/>
            <a:pathLst>
              <a:path w="522" h="299">
                <a:moveTo>
                  <a:pt x="8930" y="14238"/>
                </a:moveTo>
                <a:cubicBezTo>
                  <a:pt x="9076" y="14196"/>
                  <a:pt x="9179" y="14181"/>
                  <a:pt x="9327" y="14213"/>
                </a:cubicBezTo>
              </a:path>
              <a:path w="522" h="299">
                <a:moveTo>
                  <a:pt x="9004" y="14486"/>
                </a:moveTo>
                <a:cubicBezTo>
                  <a:pt x="9153" y="14461"/>
                  <a:pt x="9302" y="14436"/>
                  <a:pt x="9451" y="144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37000" y="5018040"/>
            <a:ext cx="500040" cy="233280"/>
          </a:xfrm>
          <a:custGeom>
            <a:avLst/>
            <a:gdLst/>
            <a:ahLst/>
            <a:rect l="l" t="t" r="r" b="b"/>
            <a:pathLst>
              <a:path w="1390" h="646">
                <a:moveTo>
                  <a:pt x="9823" y="13940"/>
                </a:moveTo>
                <a:cubicBezTo>
                  <a:pt x="9841" y="14151"/>
                  <a:pt x="9840" y="14348"/>
                  <a:pt x="9823" y="14560"/>
                </a:cubicBezTo>
                <a:cubicBezTo>
                  <a:pt x="9823" y="14618"/>
                  <a:pt x="9849" y="14607"/>
                  <a:pt x="9922" y="14511"/>
                </a:cubicBezTo>
              </a:path>
              <a:path w="1390" h="646">
                <a:moveTo>
                  <a:pt x="10716" y="13940"/>
                </a:moveTo>
                <a:cubicBezTo>
                  <a:pt x="10481" y="13962"/>
                  <a:pt x="10407" y="13974"/>
                  <a:pt x="10220" y="14114"/>
                </a:cubicBezTo>
                <a:cubicBezTo>
                  <a:pt x="10434" y="14290"/>
                  <a:pt x="10591" y="14312"/>
                  <a:pt x="10592" y="14560"/>
                </a:cubicBezTo>
                <a:cubicBezTo>
                  <a:pt x="10259" y="14561"/>
                  <a:pt x="10451" y="14371"/>
                  <a:pt x="10567" y="14163"/>
                </a:cubicBezTo>
                <a:cubicBezTo>
                  <a:pt x="10639" y="14034"/>
                  <a:pt x="10612" y="14096"/>
                  <a:pt x="10592" y="14015"/>
                </a:cubicBezTo>
              </a:path>
              <a:path w="1390" h="646">
                <a:moveTo>
                  <a:pt x="11063" y="13990"/>
                </a:moveTo>
                <a:cubicBezTo>
                  <a:pt x="10956" y="14053"/>
                  <a:pt x="10804" y="14267"/>
                  <a:pt x="10815" y="14412"/>
                </a:cubicBezTo>
                <a:cubicBezTo>
                  <a:pt x="10836" y="14692"/>
                  <a:pt x="11204" y="14537"/>
                  <a:pt x="11212" y="14312"/>
                </a:cubicBezTo>
                <a:cubicBezTo>
                  <a:pt x="11218" y="14135"/>
                  <a:pt x="11132" y="14089"/>
                  <a:pt x="11013" y="140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se the distributive property to evaluat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could you use the distributive property to help solve the problem…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8 x 39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3259080" y="3429000"/>
            <a:ext cx="2349720" cy="420840"/>
          </a:xfrm>
          <a:custGeom>
            <a:avLst/>
            <a:gdLst/>
            <a:ahLst/>
            <a:rect l="l" t="t" r="r" b="b"/>
            <a:pathLst>
              <a:path w="6524" h="1167">
                <a:moveTo>
                  <a:pt x="9227" y="9996"/>
                </a:moveTo>
                <a:cubicBezTo>
                  <a:pt x="9266" y="9989"/>
                  <a:pt x="9618" y="9879"/>
                  <a:pt x="9575" y="10046"/>
                </a:cubicBezTo>
                <a:cubicBezTo>
                  <a:pt x="9475" y="10170"/>
                  <a:pt x="9442" y="10211"/>
                  <a:pt x="9351" y="10269"/>
                </a:cubicBezTo>
                <a:cubicBezTo>
                  <a:pt x="9335" y="10269"/>
                  <a:pt x="9318" y="10269"/>
                  <a:pt x="9302" y="10269"/>
                </a:cubicBezTo>
                <a:cubicBezTo>
                  <a:pt x="9422" y="10239"/>
                  <a:pt x="9807" y="10211"/>
                  <a:pt x="9575" y="10468"/>
                </a:cubicBezTo>
                <a:cubicBezTo>
                  <a:pt x="9350" y="10716"/>
                  <a:pt x="9092" y="10674"/>
                  <a:pt x="9103" y="10393"/>
                </a:cubicBezTo>
              </a:path>
              <a:path w="6524" h="1167">
                <a:moveTo>
                  <a:pt x="9872" y="9922"/>
                </a:moveTo>
                <a:cubicBezTo>
                  <a:pt x="9746" y="9972"/>
                  <a:pt x="9703" y="9990"/>
                  <a:pt x="9649" y="10071"/>
                </a:cubicBezTo>
                <a:cubicBezTo>
                  <a:pt x="9704" y="10144"/>
                  <a:pt x="10050" y="10304"/>
                  <a:pt x="10021" y="10418"/>
                </a:cubicBezTo>
                <a:cubicBezTo>
                  <a:pt x="9929" y="10487"/>
                  <a:pt x="9904" y="10512"/>
                  <a:pt x="9823" y="10492"/>
                </a:cubicBezTo>
                <a:cubicBezTo>
                  <a:pt x="9830" y="10320"/>
                  <a:pt x="10101" y="10123"/>
                  <a:pt x="9947" y="10046"/>
                </a:cubicBezTo>
                <a:cubicBezTo>
                  <a:pt x="9930" y="10046"/>
                  <a:pt x="9914" y="10046"/>
                  <a:pt x="9897" y="10046"/>
                </a:cubicBezTo>
              </a:path>
              <a:path w="6524" h="1167">
                <a:moveTo>
                  <a:pt x="10344" y="9773"/>
                </a:moveTo>
                <a:cubicBezTo>
                  <a:pt x="10280" y="10065"/>
                  <a:pt x="10073" y="10529"/>
                  <a:pt x="10468" y="10691"/>
                </a:cubicBezTo>
                <a:cubicBezTo>
                  <a:pt x="10564" y="10691"/>
                  <a:pt x="10595" y="10694"/>
                  <a:pt x="10616" y="10616"/>
                </a:cubicBezTo>
              </a:path>
              <a:path w="6524" h="1167">
                <a:moveTo>
                  <a:pt x="10517" y="10096"/>
                </a:moveTo>
                <a:cubicBezTo>
                  <a:pt x="10532" y="10050"/>
                  <a:pt x="10700" y="10007"/>
                  <a:pt x="10740" y="10071"/>
                </a:cubicBezTo>
                <a:cubicBezTo>
                  <a:pt x="10815" y="10188"/>
                  <a:pt x="10605" y="10292"/>
                  <a:pt x="10542" y="10344"/>
                </a:cubicBezTo>
                <a:cubicBezTo>
                  <a:pt x="10634" y="10205"/>
                  <a:pt x="10630" y="10269"/>
                  <a:pt x="10790" y="10269"/>
                </a:cubicBezTo>
                <a:cubicBezTo>
                  <a:pt x="10781" y="10404"/>
                  <a:pt x="10629" y="10666"/>
                  <a:pt x="10418" y="10567"/>
                </a:cubicBezTo>
                <a:cubicBezTo>
                  <a:pt x="10358" y="10448"/>
                  <a:pt x="10354" y="10396"/>
                  <a:pt x="10468" y="10319"/>
                </a:cubicBezTo>
              </a:path>
              <a:path w="6524" h="1167">
                <a:moveTo>
                  <a:pt x="10988" y="10071"/>
                </a:moveTo>
                <a:cubicBezTo>
                  <a:pt x="10850" y="10209"/>
                  <a:pt x="10840" y="10227"/>
                  <a:pt x="10840" y="10418"/>
                </a:cubicBezTo>
                <a:cubicBezTo>
                  <a:pt x="10925" y="10430"/>
                  <a:pt x="11427" y="10407"/>
                  <a:pt x="11286" y="10170"/>
                </a:cubicBezTo>
                <a:cubicBezTo>
                  <a:pt x="11209" y="10040"/>
                  <a:pt x="11054" y="10109"/>
                  <a:pt x="10964" y="10145"/>
                </a:cubicBezTo>
              </a:path>
              <a:path w="6524" h="1167">
                <a:moveTo>
                  <a:pt x="11534" y="10046"/>
                </a:moveTo>
                <a:cubicBezTo>
                  <a:pt x="11367" y="10200"/>
                  <a:pt x="11348" y="10270"/>
                  <a:pt x="11435" y="10468"/>
                </a:cubicBezTo>
                <a:cubicBezTo>
                  <a:pt x="11651" y="10432"/>
                  <a:pt x="11670" y="10418"/>
                  <a:pt x="11807" y="10244"/>
                </a:cubicBezTo>
                <a:cubicBezTo>
                  <a:pt x="11678" y="10020"/>
                  <a:pt x="11699" y="10046"/>
                  <a:pt x="11435" y="10046"/>
                </a:cubicBezTo>
              </a:path>
              <a:path w="6524" h="1167">
                <a:moveTo>
                  <a:pt x="12105" y="10120"/>
                </a:moveTo>
                <a:cubicBezTo>
                  <a:pt x="12121" y="10223"/>
                  <a:pt x="12161" y="10364"/>
                  <a:pt x="12129" y="10443"/>
                </a:cubicBezTo>
              </a:path>
              <a:path w="6524" h="1167">
                <a:moveTo>
                  <a:pt x="12030" y="10294"/>
                </a:moveTo>
                <a:cubicBezTo>
                  <a:pt x="12263" y="10268"/>
                  <a:pt x="12347" y="10258"/>
                  <a:pt x="12502" y="10220"/>
                </a:cubicBezTo>
              </a:path>
              <a:path w="6524" h="1167">
                <a:moveTo>
                  <a:pt x="13097" y="10096"/>
                </a:moveTo>
                <a:cubicBezTo>
                  <a:pt x="13018" y="9950"/>
                  <a:pt x="12826" y="9908"/>
                  <a:pt x="12700" y="10071"/>
                </a:cubicBezTo>
                <a:cubicBezTo>
                  <a:pt x="12692" y="10112"/>
                  <a:pt x="12683" y="10154"/>
                  <a:pt x="12675" y="10195"/>
                </a:cubicBezTo>
                <a:cubicBezTo>
                  <a:pt x="12879" y="10251"/>
                  <a:pt x="12942" y="10247"/>
                  <a:pt x="13022" y="10046"/>
                </a:cubicBezTo>
                <a:cubicBezTo>
                  <a:pt x="13022" y="10156"/>
                  <a:pt x="13026" y="10287"/>
                  <a:pt x="13047" y="10393"/>
                </a:cubicBezTo>
                <a:cubicBezTo>
                  <a:pt x="13077" y="10453"/>
                  <a:pt x="13092" y="10460"/>
                  <a:pt x="13122" y="10368"/>
                </a:cubicBezTo>
              </a:path>
              <a:path w="6524" h="1167">
                <a:moveTo>
                  <a:pt x="13370" y="9996"/>
                </a:moveTo>
                <a:cubicBezTo>
                  <a:pt x="13292" y="10145"/>
                  <a:pt x="13262" y="10227"/>
                  <a:pt x="13246" y="10393"/>
                </a:cubicBezTo>
                <a:cubicBezTo>
                  <a:pt x="13384" y="10393"/>
                  <a:pt x="13696" y="10335"/>
                  <a:pt x="13593" y="10096"/>
                </a:cubicBezTo>
                <a:cubicBezTo>
                  <a:pt x="13545" y="9984"/>
                  <a:pt x="13405" y="10021"/>
                  <a:pt x="13320" y="10021"/>
                </a:cubicBezTo>
              </a:path>
              <a:path w="6524" h="1167">
                <a:moveTo>
                  <a:pt x="14089" y="9996"/>
                </a:moveTo>
                <a:cubicBezTo>
                  <a:pt x="14108" y="10110"/>
                  <a:pt x="14126" y="10310"/>
                  <a:pt x="14163" y="10269"/>
                </a:cubicBezTo>
              </a:path>
              <a:path w="6524" h="1167">
                <a:moveTo>
                  <a:pt x="13965" y="10145"/>
                </a:moveTo>
                <a:cubicBezTo>
                  <a:pt x="14155" y="10134"/>
                  <a:pt x="14302" y="10117"/>
                  <a:pt x="14486" y="10071"/>
                </a:cubicBezTo>
              </a:path>
              <a:path w="6524" h="1167">
                <a:moveTo>
                  <a:pt x="14560" y="9847"/>
                </a:moveTo>
                <a:cubicBezTo>
                  <a:pt x="14611" y="9838"/>
                  <a:pt x="14871" y="9776"/>
                  <a:pt x="14908" y="9823"/>
                </a:cubicBezTo>
                <a:cubicBezTo>
                  <a:pt x="15018" y="9961"/>
                  <a:pt x="14733" y="10321"/>
                  <a:pt x="14908" y="10344"/>
                </a:cubicBezTo>
                <a:cubicBezTo>
                  <a:pt x="14924" y="10319"/>
                  <a:pt x="14941" y="10294"/>
                  <a:pt x="14957" y="10269"/>
                </a:cubicBezTo>
              </a:path>
              <a:path w="6524" h="1167">
                <a:moveTo>
                  <a:pt x="15156" y="9525"/>
                </a:moveTo>
                <a:cubicBezTo>
                  <a:pt x="15458" y="9709"/>
                  <a:pt x="15696" y="9959"/>
                  <a:pt x="15503" y="10344"/>
                </a:cubicBezTo>
                <a:cubicBezTo>
                  <a:pt x="15363" y="10483"/>
                  <a:pt x="15351" y="10529"/>
                  <a:pt x="15230" y="10542"/>
                </a:cubicBezTo>
              </a:path>
              <a:path w="6524" h="1167">
                <a:moveTo>
                  <a:pt x="11931" y="10368"/>
                </a:moveTo>
                <a:cubicBezTo>
                  <a:pt x="12021" y="10550"/>
                  <a:pt x="12284" y="10469"/>
                  <a:pt x="12452" y="10393"/>
                </a:cubicBezTo>
                <a:cubicBezTo>
                  <a:pt x="12631" y="10281"/>
                  <a:pt x="12687" y="10259"/>
                  <a:pt x="12725" y="10120"/>
                </a:cubicBezTo>
                <a:cubicBezTo>
                  <a:pt x="12476" y="9847"/>
                  <a:pt x="12099" y="9661"/>
                  <a:pt x="11832" y="10096"/>
                </a:cubicBezTo>
                <a:cubicBezTo>
                  <a:pt x="11809" y="10326"/>
                  <a:pt x="11786" y="10396"/>
                  <a:pt x="11956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68760" y="3598920"/>
            <a:ext cx="3616200" cy="795240"/>
          </a:xfrm>
          <a:custGeom>
            <a:avLst/>
            <a:gdLst/>
            <a:ahLst/>
            <a:rect l="l" t="t" r="r" b="b"/>
            <a:pathLst>
              <a:path w="10047" h="2209">
                <a:moveTo>
                  <a:pt x="7962" y="11212"/>
                </a:moveTo>
                <a:cubicBezTo>
                  <a:pt x="7900" y="11352"/>
                  <a:pt x="7424" y="12145"/>
                  <a:pt x="7838" y="12204"/>
                </a:cubicBezTo>
                <a:cubicBezTo>
                  <a:pt x="7904" y="12187"/>
                  <a:pt x="7971" y="12171"/>
                  <a:pt x="8037" y="12154"/>
                </a:cubicBezTo>
              </a:path>
              <a:path w="10047" h="2209">
                <a:moveTo>
                  <a:pt x="8161" y="11410"/>
                </a:moveTo>
                <a:cubicBezTo>
                  <a:pt x="8211" y="11404"/>
                  <a:pt x="8517" y="11348"/>
                  <a:pt x="8409" y="11534"/>
                </a:cubicBezTo>
                <a:cubicBezTo>
                  <a:pt x="8334" y="11591"/>
                  <a:pt x="8322" y="11595"/>
                  <a:pt x="8285" y="11633"/>
                </a:cubicBezTo>
                <a:cubicBezTo>
                  <a:pt x="8409" y="11593"/>
                  <a:pt x="8679" y="11613"/>
                  <a:pt x="8508" y="11832"/>
                </a:cubicBezTo>
                <a:cubicBezTo>
                  <a:pt x="8320" y="12072"/>
                  <a:pt x="8131" y="11961"/>
                  <a:pt x="8111" y="11757"/>
                </a:cubicBezTo>
              </a:path>
              <a:path w="10047" h="2209">
                <a:moveTo>
                  <a:pt x="8905" y="11336"/>
                </a:moveTo>
                <a:cubicBezTo>
                  <a:pt x="8822" y="11346"/>
                  <a:pt x="8583" y="11389"/>
                  <a:pt x="8607" y="11534"/>
                </a:cubicBezTo>
                <a:cubicBezTo>
                  <a:pt x="8625" y="11639"/>
                  <a:pt x="8942" y="11696"/>
                  <a:pt x="9029" y="11733"/>
                </a:cubicBezTo>
                <a:cubicBezTo>
                  <a:pt x="9021" y="11766"/>
                  <a:pt x="9012" y="11799"/>
                  <a:pt x="9004" y="11832"/>
                </a:cubicBezTo>
                <a:cubicBezTo>
                  <a:pt x="8695" y="11851"/>
                  <a:pt x="8877" y="11732"/>
                  <a:pt x="8954" y="11534"/>
                </a:cubicBezTo>
                <a:cubicBezTo>
                  <a:pt x="8954" y="11493"/>
                  <a:pt x="8962" y="11477"/>
                  <a:pt x="8930" y="11485"/>
                </a:cubicBezTo>
              </a:path>
              <a:path w="10047" h="2209">
                <a:moveTo>
                  <a:pt x="9302" y="11435"/>
                </a:moveTo>
                <a:cubicBezTo>
                  <a:pt x="9362" y="11555"/>
                  <a:pt x="9481" y="11675"/>
                  <a:pt x="9575" y="11782"/>
                </a:cubicBezTo>
              </a:path>
              <a:path w="10047" h="2209">
                <a:moveTo>
                  <a:pt x="9550" y="11336"/>
                </a:moveTo>
                <a:cubicBezTo>
                  <a:pt x="9444" y="11476"/>
                  <a:pt x="9395" y="11618"/>
                  <a:pt x="9327" y="11782"/>
                </a:cubicBezTo>
              </a:path>
              <a:path w="10047" h="2209">
                <a:moveTo>
                  <a:pt x="9798" y="11261"/>
                </a:moveTo>
                <a:cubicBezTo>
                  <a:pt x="9885" y="11244"/>
                  <a:pt x="10095" y="11262"/>
                  <a:pt x="9947" y="11410"/>
                </a:cubicBezTo>
                <a:cubicBezTo>
                  <a:pt x="9858" y="11454"/>
                  <a:pt x="9838" y="11471"/>
                  <a:pt x="9773" y="11460"/>
                </a:cubicBezTo>
                <a:cubicBezTo>
                  <a:pt x="9873" y="11460"/>
                  <a:pt x="10076" y="11463"/>
                  <a:pt x="10021" y="11633"/>
                </a:cubicBezTo>
                <a:cubicBezTo>
                  <a:pt x="9978" y="11768"/>
                  <a:pt x="9638" y="11928"/>
                  <a:pt x="9748" y="11633"/>
                </a:cubicBezTo>
              </a:path>
              <a:path w="10047" h="2209">
                <a:moveTo>
                  <a:pt x="10145" y="11261"/>
                </a:moveTo>
                <a:cubicBezTo>
                  <a:pt x="10053" y="11438"/>
                  <a:pt x="10038" y="11487"/>
                  <a:pt x="10046" y="11683"/>
                </a:cubicBezTo>
                <a:cubicBezTo>
                  <a:pt x="10228" y="11690"/>
                  <a:pt x="10587" y="11672"/>
                  <a:pt x="10418" y="11361"/>
                </a:cubicBezTo>
                <a:cubicBezTo>
                  <a:pt x="10340" y="11218"/>
                  <a:pt x="10225" y="11257"/>
                  <a:pt x="10145" y="11311"/>
                </a:cubicBezTo>
              </a:path>
              <a:path w="10047" h="2209">
                <a:moveTo>
                  <a:pt x="10542" y="11286"/>
                </a:moveTo>
                <a:cubicBezTo>
                  <a:pt x="10475" y="11466"/>
                  <a:pt x="10447" y="11511"/>
                  <a:pt x="10492" y="11633"/>
                </a:cubicBezTo>
                <a:cubicBezTo>
                  <a:pt x="10662" y="11660"/>
                  <a:pt x="11002" y="11675"/>
                  <a:pt x="10815" y="11385"/>
                </a:cubicBezTo>
                <a:cubicBezTo>
                  <a:pt x="10708" y="11278"/>
                  <a:pt x="10691" y="11243"/>
                  <a:pt x="10592" y="11237"/>
                </a:cubicBezTo>
              </a:path>
              <a:path w="10047" h="2209">
                <a:moveTo>
                  <a:pt x="10864" y="11038"/>
                </a:moveTo>
                <a:cubicBezTo>
                  <a:pt x="10973" y="11313"/>
                  <a:pt x="11204" y="11724"/>
                  <a:pt x="10889" y="11956"/>
                </a:cubicBezTo>
                <a:cubicBezTo>
                  <a:pt x="10751" y="12002"/>
                  <a:pt x="10707" y="12027"/>
                  <a:pt x="10666" y="11906"/>
                </a:cubicBezTo>
              </a:path>
              <a:path w="10047" h="2209">
                <a:moveTo>
                  <a:pt x="11410" y="11385"/>
                </a:moveTo>
                <a:cubicBezTo>
                  <a:pt x="11410" y="11512"/>
                  <a:pt x="11383" y="11633"/>
                  <a:pt x="11361" y="11757"/>
                </a:cubicBezTo>
              </a:path>
              <a:path w="10047" h="2209">
                <a:moveTo>
                  <a:pt x="11336" y="11509"/>
                </a:moveTo>
                <a:cubicBezTo>
                  <a:pt x="11511" y="11485"/>
                  <a:pt x="11571" y="11476"/>
                  <a:pt x="11683" y="11435"/>
                </a:cubicBezTo>
              </a:path>
              <a:path w="10047" h="2209">
                <a:moveTo>
                  <a:pt x="11931" y="11088"/>
                </a:moveTo>
                <a:cubicBezTo>
                  <a:pt x="11876" y="11234"/>
                  <a:pt x="11616" y="11749"/>
                  <a:pt x="11931" y="11832"/>
                </a:cubicBezTo>
                <a:cubicBezTo>
                  <a:pt x="11964" y="11815"/>
                  <a:pt x="11997" y="11799"/>
                  <a:pt x="12030" y="11782"/>
                </a:cubicBezTo>
              </a:path>
              <a:path w="10047" h="2209">
                <a:moveTo>
                  <a:pt x="12030" y="11237"/>
                </a:moveTo>
                <a:cubicBezTo>
                  <a:pt x="12105" y="11205"/>
                  <a:pt x="12284" y="11192"/>
                  <a:pt x="12204" y="11336"/>
                </a:cubicBezTo>
                <a:cubicBezTo>
                  <a:pt x="12133" y="11464"/>
                  <a:pt x="12084" y="11477"/>
                  <a:pt x="11956" y="11509"/>
                </a:cubicBezTo>
                <a:cubicBezTo>
                  <a:pt x="12169" y="11487"/>
                  <a:pt x="12154" y="11474"/>
                  <a:pt x="12254" y="11633"/>
                </a:cubicBezTo>
                <a:cubicBezTo>
                  <a:pt x="12058" y="11804"/>
                  <a:pt x="11924" y="11872"/>
                  <a:pt x="11881" y="11609"/>
                </a:cubicBezTo>
              </a:path>
              <a:path w="10047" h="2209">
                <a:moveTo>
                  <a:pt x="12526" y="11212"/>
                </a:moveTo>
                <a:cubicBezTo>
                  <a:pt x="12302" y="11355"/>
                  <a:pt x="12404" y="11381"/>
                  <a:pt x="12576" y="11534"/>
                </a:cubicBezTo>
                <a:cubicBezTo>
                  <a:pt x="12646" y="11605"/>
                  <a:pt x="12674" y="11625"/>
                  <a:pt x="12601" y="11683"/>
                </a:cubicBezTo>
                <a:cubicBezTo>
                  <a:pt x="12568" y="11691"/>
                  <a:pt x="12535" y="11700"/>
                  <a:pt x="12502" y="11708"/>
                </a:cubicBezTo>
                <a:cubicBezTo>
                  <a:pt x="12398" y="11535"/>
                  <a:pt x="12450" y="11505"/>
                  <a:pt x="12601" y="11311"/>
                </a:cubicBezTo>
              </a:path>
              <a:path w="10047" h="2209">
                <a:moveTo>
                  <a:pt x="12824" y="11336"/>
                </a:moveTo>
                <a:cubicBezTo>
                  <a:pt x="12882" y="11416"/>
                  <a:pt x="13024" y="11716"/>
                  <a:pt x="13047" y="11559"/>
                </a:cubicBezTo>
              </a:path>
              <a:path w="10047" h="2209">
                <a:moveTo>
                  <a:pt x="12948" y="11286"/>
                </a:moveTo>
                <a:cubicBezTo>
                  <a:pt x="12885" y="11406"/>
                  <a:pt x="12823" y="11519"/>
                  <a:pt x="12750" y="11633"/>
                </a:cubicBezTo>
              </a:path>
              <a:path w="10047" h="2209">
                <a:moveTo>
                  <a:pt x="13419" y="11286"/>
                </a:moveTo>
                <a:cubicBezTo>
                  <a:pt x="13444" y="11286"/>
                  <a:pt x="13452" y="11286"/>
                  <a:pt x="13444" y="11261"/>
                </a:cubicBezTo>
                <a:cubicBezTo>
                  <a:pt x="13410" y="11141"/>
                  <a:pt x="13281" y="11167"/>
                  <a:pt x="13196" y="11261"/>
                </a:cubicBezTo>
                <a:cubicBezTo>
                  <a:pt x="13133" y="11366"/>
                  <a:pt x="13102" y="11387"/>
                  <a:pt x="13146" y="11460"/>
                </a:cubicBezTo>
                <a:cubicBezTo>
                  <a:pt x="13291" y="11434"/>
                  <a:pt x="13355" y="11178"/>
                  <a:pt x="13419" y="11311"/>
                </a:cubicBezTo>
                <a:cubicBezTo>
                  <a:pt x="13401" y="11462"/>
                  <a:pt x="13395" y="11604"/>
                  <a:pt x="13395" y="11757"/>
                </a:cubicBezTo>
              </a:path>
              <a:path w="10047" h="2209">
                <a:moveTo>
                  <a:pt x="13643" y="11410"/>
                </a:moveTo>
                <a:cubicBezTo>
                  <a:pt x="13572" y="11528"/>
                  <a:pt x="13547" y="11562"/>
                  <a:pt x="13568" y="11658"/>
                </a:cubicBezTo>
                <a:cubicBezTo>
                  <a:pt x="13678" y="11695"/>
                  <a:pt x="13995" y="11698"/>
                  <a:pt x="13915" y="11460"/>
                </a:cubicBezTo>
                <a:cubicBezTo>
                  <a:pt x="13820" y="11365"/>
                  <a:pt x="13791" y="11335"/>
                  <a:pt x="13717" y="11286"/>
                </a:cubicBezTo>
              </a:path>
              <a:path w="10047" h="2209">
                <a:moveTo>
                  <a:pt x="13791" y="11063"/>
                </a:moveTo>
                <a:cubicBezTo>
                  <a:pt x="13892" y="11259"/>
                  <a:pt x="14220" y="11753"/>
                  <a:pt x="13841" y="11906"/>
                </a:cubicBezTo>
                <a:cubicBezTo>
                  <a:pt x="13775" y="11906"/>
                  <a:pt x="13709" y="11906"/>
                  <a:pt x="13643" y="11906"/>
                </a:cubicBezTo>
              </a:path>
              <a:path w="10047" h="2209">
                <a:moveTo>
                  <a:pt x="13940" y="10368"/>
                </a:moveTo>
                <a:cubicBezTo>
                  <a:pt x="13895" y="10491"/>
                  <a:pt x="13887" y="10514"/>
                  <a:pt x="13915" y="10641"/>
                </a:cubicBezTo>
                <a:cubicBezTo>
                  <a:pt x="14145" y="10650"/>
                  <a:pt x="14433" y="10623"/>
                  <a:pt x="14412" y="10294"/>
                </a:cubicBezTo>
                <a:cubicBezTo>
                  <a:pt x="14388" y="9921"/>
                  <a:pt x="13993" y="9931"/>
                  <a:pt x="13816" y="10170"/>
                </a:cubicBezTo>
                <a:cubicBezTo>
                  <a:pt x="13499" y="10598"/>
                  <a:pt x="13872" y="10641"/>
                  <a:pt x="14188" y="10641"/>
                </a:cubicBezTo>
              </a:path>
              <a:path w="10047" h="2209">
                <a:moveTo>
                  <a:pt x="14288" y="11187"/>
                </a:moveTo>
                <a:cubicBezTo>
                  <a:pt x="14297" y="11327"/>
                  <a:pt x="14323" y="11450"/>
                  <a:pt x="14288" y="11584"/>
                </a:cubicBezTo>
              </a:path>
              <a:path w="10047" h="2209">
                <a:moveTo>
                  <a:pt x="14163" y="11410"/>
                </a:moveTo>
                <a:cubicBezTo>
                  <a:pt x="14357" y="11410"/>
                  <a:pt x="14435" y="11404"/>
                  <a:pt x="14560" y="11336"/>
                </a:cubicBezTo>
              </a:path>
              <a:path w="10047" h="2209">
                <a:moveTo>
                  <a:pt x="14932" y="10939"/>
                </a:moveTo>
                <a:cubicBezTo>
                  <a:pt x="14812" y="11188"/>
                  <a:pt x="14665" y="11515"/>
                  <a:pt x="14908" y="11757"/>
                </a:cubicBezTo>
                <a:cubicBezTo>
                  <a:pt x="14941" y="11765"/>
                  <a:pt x="14974" y="11774"/>
                  <a:pt x="15007" y="11782"/>
                </a:cubicBezTo>
              </a:path>
              <a:path w="10047" h="2209">
                <a:moveTo>
                  <a:pt x="15131" y="11088"/>
                </a:moveTo>
                <a:cubicBezTo>
                  <a:pt x="15263" y="11088"/>
                  <a:pt x="15409" y="11067"/>
                  <a:pt x="15304" y="11237"/>
                </a:cubicBezTo>
                <a:cubicBezTo>
                  <a:pt x="15243" y="11298"/>
                  <a:pt x="15236" y="11323"/>
                  <a:pt x="15180" y="11311"/>
                </a:cubicBezTo>
                <a:cubicBezTo>
                  <a:pt x="15188" y="11311"/>
                  <a:pt x="15197" y="11311"/>
                  <a:pt x="15205" y="11311"/>
                </a:cubicBezTo>
                <a:cubicBezTo>
                  <a:pt x="15410" y="11350"/>
                  <a:pt x="15652" y="11551"/>
                  <a:pt x="15304" y="11658"/>
                </a:cubicBezTo>
                <a:cubicBezTo>
                  <a:pt x="15136" y="11658"/>
                  <a:pt x="15081" y="11662"/>
                  <a:pt x="15032" y="11534"/>
                </a:cubicBezTo>
              </a:path>
              <a:path w="10047" h="2209">
                <a:moveTo>
                  <a:pt x="15801" y="11038"/>
                </a:moveTo>
                <a:cubicBezTo>
                  <a:pt x="15697" y="11038"/>
                  <a:pt x="15661" y="11040"/>
                  <a:pt x="15602" y="11088"/>
                </a:cubicBezTo>
                <a:cubicBezTo>
                  <a:pt x="15661" y="11230"/>
                  <a:pt x="15960" y="11276"/>
                  <a:pt x="15949" y="11460"/>
                </a:cubicBezTo>
                <a:cubicBezTo>
                  <a:pt x="15876" y="11533"/>
                  <a:pt x="15852" y="11558"/>
                  <a:pt x="15776" y="11559"/>
                </a:cubicBezTo>
                <a:cubicBezTo>
                  <a:pt x="15747" y="11415"/>
                  <a:pt x="15923" y="11267"/>
                  <a:pt x="15875" y="11137"/>
                </a:cubicBezTo>
                <a:cubicBezTo>
                  <a:pt x="15858" y="11129"/>
                  <a:pt x="15842" y="11120"/>
                  <a:pt x="15825" y="11112"/>
                </a:cubicBezTo>
              </a:path>
              <a:path w="10047" h="2209">
                <a:moveTo>
                  <a:pt x="16346" y="11112"/>
                </a:moveTo>
                <a:cubicBezTo>
                  <a:pt x="16375" y="11150"/>
                  <a:pt x="16573" y="11435"/>
                  <a:pt x="16594" y="11435"/>
                </a:cubicBezTo>
                <a:cubicBezTo>
                  <a:pt x="16594" y="11418"/>
                  <a:pt x="16594" y="11402"/>
                  <a:pt x="16594" y="11385"/>
                </a:cubicBezTo>
              </a:path>
              <a:path w="10047" h="2209">
                <a:moveTo>
                  <a:pt x="16446" y="11112"/>
                </a:moveTo>
                <a:cubicBezTo>
                  <a:pt x="16397" y="11236"/>
                  <a:pt x="16194" y="11550"/>
                  <a:pt x="16371" y="11485"/>
                </a:cubicBezTo>
              </a:path>
              <a:path w="10047" h="2209">
                <a:moveTo>
                  <a:pt x="16768" y="11038"/>
                </a:moveTo>
                <a:cubicBezTo>
                  <a:pt x="16852" y="11020"/>
                  <a:pt x="17035" y="10963"/>
                  <a:pt x="17115" y="10988"/>
                </a:cubicBezTo>
                <a:cubicBezTo>
                  <a:pt x="17123" y="10996"/>
                  <a:pt x="17132" y="11005"/>
                  <a:pt x="17140" y="11013"/>
                </a:cubicBezTo>
                <a:cubicBezTo>
                  <a:pt x="17134" y="11124"/>
                  <a:pt x="17030" y="11472"/>
                  <a:pt x="17090" y="11559"/>
                </a:cubicBezTo>
                <a:cubicBezTo>
                  <a:pt x="17098" y="11542"/>
                  <a:pt x="17107" y="11526"/>
                  <a:pt x="17115" y="11509"/>
                </a:cubicBezTo>
              </a:path>
              <a:path w="10047" h="2209">
                <a:moveTo>
                  <a:pt x="17214" y="10641"/>
                </a:moveTo>
                <a:cubicBezTo>
                  <a:pt x="17540" y="10767"/>
                  <a:pt x="17786" y="11006"/>
                  <a:pt x="17735" y="11410"/>
                </a:cubicBezTo>
                <a:cubicBezTo>
                  <a:pt x="17712" y="11589"/>
                  <a:pt x="17570" y="11682"/>
                  <a:pt x="17438" y="117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ord 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) 28 students are visiting the zoo. The cost is $5 for each student plus an extra $3 to see the panda exhibit. Use the distributive property to find out the total cost for all of the students to go to the zoo and see the panda exhibi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butive Property W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7:42:23Z</dcterms:created>
  <dc:creator>TAMMY  COON</dc:creator>
  <dc:description/>
  <dc:language>en-US</dc:language>
  <cp:lastModifiedBy>deanne elizabeth mcgrath</cp:lastModifiedBy>
  <dcterms:modified xsi:type="dcterms:W3CDTF">2011-01-20T19:05:15Z</dcterms:modified>
  <cp:revision>7</cp:revision>
  <dc:subject/>
  <dc:title>Opener: Find the % of the number </dc:title>
</cp:coreProperties>
</file>